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5A7-28C9-4058-835E-993053D3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9C6-3674-46D1-9449-241C4C96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67D-858F-4B22-BC48-D67FB2CB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4E7-BB3F-4E0B-9797-CBCDCDD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3AE-310F-4CC9-8910-21DCA48B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D1B-5238-4276-B029-1B3A4969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273-6719-4AA0-8796-A317486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F8C-D86E-4181-867B-353D1E6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D76-A239-4222-99C0-75BFC091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E50-51B9-449C-BD6A-0E68D45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EB0-E523-4393-858A-87D26AA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028-465D-421A-ADAB-14E6B92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AE0-2B43-4F5C-84FD-239AE797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I am selecting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from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the numbers of ways I can do this in a combination (where order doesn´t matter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5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0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!(</a:t>
            </a:r>
            <a:r>
              <a:rPr b="0" lang="en-GB" sz="50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5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5157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2ax + 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3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6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4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x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5257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expand (x – a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   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4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6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4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, insert the terms with powers ascending/desc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Next, add the coefficients using </a:t>
            </a:r>
            <a:r>
              <a:rPr b="0" lang="en-GB" sz="2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GB" sz="22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 or Pa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Finally, insert + or – between each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7800" y="139392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2729" y="3944"/>
                </a:moveTo>
                <a:cubicBezTo>
                  <a:pt x="2751" y="3913"/>
                  <a:pt x="2758" y="3884"/>
                  <a:pt x="2729" y="3870"/>
                </a:cubicBezTo>
                <a:cubicBezTo>
                  <a:pt x="2707" y="3859"/>
                  <a:pt x="2593" y="3882"/>
                  <a:pt x="2580" y="3894"/>
                </a:cubicBezTo>
                <a:cubicBezTo>
                  <a:pt x="2536" y="3934"/>
                  <a:pt x="2460" y="4012"/>
                  <a:pt x="2431" y="4068"/>
                </a:cubicBezTo>
                <a:cubicBezTo>
                  <a:pt x="2389" y="4149"/>
                  <a:pt x="2368" y="4253"/>
                  <a:pt x="2356" y="4341"/>
                </a:cubicBezTo>
                <a:cubicBezTo>
                  <a:pt x="2348" y="4399"/>
                  <a:pt x="2346" y="4471"/>
                  <a:pt x="2381" y="4514"/>
                </a:cubicBezTo>
                <a:cubicBezTo>
                  <a:pt x="2414" y="4555"/>
                  <a:pt x="2452" y="4585"/>
                  <a:pt x="2505" y="4589"/>
                </a:cubicBezTo>
                <a:cubicBezTo>
                  <a:pt x="2574" y="4594"/>
                  <a:pt x="2616" y="4555"/>
                  <a:pt x="2679" y="4539"/>
                </a:cubicBezTo>
                <a:cubicBezTo>
                  <a:pt x="2704" y="4539"/>
                  <a:pt x="2712" y="4539"/>
                  <a:pt x="2729" y="4539"/>
                </a:cubicBezTo>
              </a:path>
              <a:path w="2283" h="1142">
                <a:moveTo>
                  <a:pt x="2604" y="4465"/>
                </a:moveTo>
                <a:cubicBezTo>
                  <a:pt x="2553" y="4387"/>
                  <a:pt x="2563" y="4419"/>
                  <a:pt x="2480" y="4440"/>
                </a:cubicBezTo>
                <a:cubicBezTo>
                  <a:pt x="2444" y="4449"/>
                  <a:pt x="2435" y="4461"/>
                  <a:pt x="2406" y="4490"/>
                </a:cubicBezTo>
              </a:path>
              <a:path w="2283" h="1142">
                <a:moveTo>
                  <a:pt x="3026" y="4341"/>
                </a:moveTo>
                <a:cubicBezTo>
                  <a:pt x="3078" y="4341"/>
                  <a:pt x="3076" y="4343"/>
                  <a:pt x="3076" y="4291"/>
                </a:cubicBezTo>
                <a:cubicBezTo>
                  <a:pt x="3064" y="4353"/>
                  <a:pt x="3030" y="4407"/>
                  <a:pt x="3001" y="4465"/>
                </a:cubicBezTo>
                <a:cubicBezTo>
                  <a:pt x="2975" y="4516"/>
                  <a:pt x="2954" y="4593"/>
                  <a:pt x="2927" y="4638"/>
                </a:cubicBezTo>
                <a:cubicBezTo>
                  <a:pt x="2919" y="4646"/>
                  <a:pt x="2910" y="4655"/>
                  <a:pt x="2902" y="4663"/>
                </a:cubicBezTo>
              </a:path>
              <a:path w="2283" h="1142">
                <a:moveTo>
                  <a:pt x="3051" y="4564"/>
                </a:moveTo>
                <a:cubicBezTo>
                  <a:pt x="3092" y="4564"/>
                  <a:pt x="3100" y="4564"/>
                  <a:pt x="3125" y="4564"/>
                </a:cubicBezTo>
                <a:cubicBezTo>
                  <a:pt x="3104" y="4608"/>
                  <a:pt x="3096" y="4549"/>
                  <a:pt x="3051" y="4539"/>
                </a:cubicBezTo>
                <a:cubicBezTo>
                  <a:pt x="2996" y="4527"/>
                  <a:pt x="2951" y="4526"/>
                  <a:pt x="2902" y="4514"/>
                </a:cubicBezTo>
              </a:path>
              <a:path w="2283" h="1142">
                <a:moveTo>
                  <a:pt x="3225" y="4490"/>
                </a:moveTo>
                <a:cubicBezTo>
                  <a:pt x="3245" y="4449"/>
                  <a:pt x="3242" y="4432"/>
                  <a:pt x="3274" y="4440"/>
                </a:cubicBezTo>
                <a:cubicBezTo>
                  <a:pt x="3318" y="4455"/>
                  <a:pt x="3299" y="4511"/>
                  <a:pt x="3299" y="4564"/>
                </a:cubicBezTo>
                <a:cubicBezTo>
                  <a:pt x="3299" y="4676"/>
                  <a:pt x="3312" y="4779"/>
                  <a:pt x="3324" y="4887"/>
                </a:cubicBezTo>
                <a:cubicBezTo>
                  <a:pt x="3324" y="4955"/>
                  <a:pt x="3321" y="4974"/>
                  <a:pt x="3349" y="5011"/>
                </a:cubicBezTo>
              </a:path>
              <a:path w="2283" h="1142">
                <a:moveTo>
                  <a:pt x="3324" y="4638"/>
                </a:moveTo>
                <a:cubicBezTo>
                  <a:pt x="3324" y="4586"/>
                  <a:pt x="3300" y="4421"/>
                  <a:pt x="3349" y="4390"/>
                </a:cubicBezTo>
                <a:cubicBezTo>
                  <a:pt x="3409" y="4352"/>
                  <a:pt x="3455" y="4421"/>
                  <a:pt x="3473" y="4465"/>
                </a:cubicBezTo>
                <a:cubicBezTo>
                  <a:pt x="3499" y="4530"/>
                  <a:pt x="3517" y="4607"/>
                  <a:pt x="3473" y="4663"/>
                </a:cubicBezTo>
                <a:cubicBezTo>
                  <a:pt x="3440" y="4705"/>
                  <a:pt x="3391" y="4681"/>
                  <a:pt x="3349" y="4713"/>
                </a:cubicBezTo>
              </a:path>
              <a:path w="2283" h="1142">
                <a:moveTo>
                  <a:pt x="3671" y="4415"/>
                </a:moveTo>
                <a:cubicBezTo>
                  <a:pt x="3695" y="4384"/>
                  <a:pt x="3697" y="4372"/>
                  <a:pt x="3721" y="4341"/>
                </a:cubicBezTo>
                <a:cubicBezTo>
                  <a:pt x="3665" y="4341"/>
                  <a:pt x="3649" y="4353"/>
                  <a:pt x="3646" y="4415"/>
                </a:cubicBezTo>
                <a:cubicBezTo>
                  <a:pt x="3643" y="4472"/>
                  <a:pt x="3646" y="4531"/>
                  <a:pt x="3646" y="4589"/>
                </a:cubicBezTo>
                <a:cubicBezTo>
                  <a:pt x="3710" y="4589"/>
                  <a:pt x="3689" y="4560"/>
                  <a:pt x="3721" y="4539"/>
                </a:cubicBezTo>
                <a:cubicBezTo>
                  <a:pt x="3746" y="4522"/>
                  <a:pt x="3829" y="4554"/>
                  <a:pt x="3845" y="4564"/>
                </a:cubicBezTo>
                <a:cubicBezTo>
                  <a:pt x="3883" y="4587"/>
                  <a:pt x="3873" y="4589"/>
                  <a:pt x="3919" y="4589"/>
                </a:cubicBezTo>
              </a:path>
              <a:path w="2283" h="1142">
                <a:moveTo>
                  <a:pt x="3894" y="4465"/>
                </a:moveTo>
                <a:cubicBezTo>
                  <a:pt x="3929" y="4488"/>
                  <a:pt x="3926" y="4576"/>
                  <a:pt x="3944" y="4539"/>
                </a:cubicBezTo>
                <a:cubicBezTo>
                  <a:pt x="3958" y="4511"/>
                  <a:pt x="3961" y="4442"/>
                  <a:pt x="3969" y="4415"/>
                </a:cubicBezTo>
                <a:cubicBezTo>
                  <a:pt x="3982" y="4371"/>
                  <a:pt x="4017" y="4335"/>
                  <a:pt x="4068" y="4390"/>
                </a:cubicBezTo>
                <a:cubicBezTo>
                  <a:pt x="4111" y="4436"/>
                  <a:pt x="4145" y="4492"/>
                  <a:pt x="4192" y="4539"/>
                </a:cubicBezTo>
                <a:cubicBezTo>
                  <a:pt x="4217" y="4564"/>
                  <a:pt x="4225" y="4572"/>
                  <a:pt x="4242" y="4589"/>
                </a:cubicBezTo>
              </a:path>
              <a:path w="2283" h="1142">
                <a:moveTo>
                  <a:pt x="4242" y="4490"/>
                </a:moveTo>
                <a:cubicBezTo>
                  <a:pt x="4270" y="4429"/>
                  <a:pt x="4302" y="4373"/>
                  <a:pt x="4316" y="4316"/>
                </a:cubicBezTo>
                <a:cubicBezTo>
                  <a:pt x="4316" y="4388"/>
                  <a:pt x="4305" y="4456"/>
                  <a:pt x="4341" y="4514"/>
                </a:cubicBezTo>
                <a:cubicBezTo>
                  <a:pt x="4395" y="4447"/>
                  <a:pt x="4407" y="4353"/>
                  <a:pt x="4415" y="4266"/>
                </a:cubicBezTo>
                <a:cubicBezTo>
                  <a:pt x="4425" y="4153"/>
                  <a:pt x="4412" y="4048"/>
                  <a:pt x="4390" y="3944"/>
                </a:cubicBezTo>
                <a:cubicBezTo>
                  <a:pt x="4390" y="3936"/>
                  <a:pt x="4390" y="3927"/>
                  <a:pt x="4390" y="3919"/>
                </a:cubicBezTo>
                <a:cubicBezTo>
                  <a:pt x="4405" y="4011"/>
                  <a:pt x="4436" y="4128"/>
                  <a:pt x="4465" y="4217"/>
                </a:cubicBezTo>
                <a:cubicBezTo>
                  <a:pt x="4505" y="4342"/>
                  <a:pt x="4553" y="4397"/>
                  <a:pt x="463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8000" y="1312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6375" y="4266"/>
                </a:moveTo>
                <a:cubicBezTo>
                  <a:pt x="6375" y="4217"/>
                  <a:pt x="6358" y="4151"/>
                  <a:pt x="6400" y="4118"/>
                </a:cubicBezTo>
                <a:cubicBezTo>
                  <a:pt x="6473" y="4061"/>
                  <a:pt x="6547" y="4105"/>
                  <a:pt x="6598" y="4167"/>
                </a:cubicBezTo>
                <a:cubicBezTo>
                  <a:pt x="6676" y="4262"/>
                  <a:pt x="6689" y="4352"/>
                  <a:pt x="6648" y="4465"/>
                </a:cubicBezTo>
                <a:cubicBezTo>
                  <a:pt x="6621" y="4539"/>
                  <a:pt x="6571" y="4583"/>
                  <a:pt x="6499" y="4589"/>
                </a:cubicBezTo>
                <a:cubicBezTo>
                  <a:pt x="6471" y="4589"/>
                  <a:pt x="6460" y="4587"/>
                  <a:pt x="6449" y="4564"/>
                </a:cubicBezTo>
              </a:path>
              <a:path w="820" h="1465">
                <a:moveTo>
                  <a:pt x="6747" y="4118"/>
                </a:moveTo>
                <a:cubicBezTo>
                  <a:pt x="6798" y="4088"/>
                  <a:pt x="6832" y="4074"/>
                  <a:pt x="6846" y="4018"/>
                </a:cubicBezTo>
                <a:cubicBezTo>
                  <a:pt x="6784" y="4018"/>
                  <a:pt x="6758" y="4064"/>
                  <a:pt x="6722" y="4118"/>
                </a:cubicBezTo>
                <a:cubicBezTo>
                  <a:pt x="6680" y="4181"/>
                  <a:pt x="6678" y="4303"/>
                  <a:pt x="6722" y="4366"/>
                </a:cubicBezTo>
                <a:cubicBezTo>
                  <a:pt x="6770" y="4436"/>
                  <a:pt x="6806" y="4454"/>
                  <a:pt x="6871" y="4415"/>
                </a:cubicBezTo>
              </a:path>
              <a:path w="820" h="1465">
                <a:moveTo>
                  <a:pt x="6226" y="3721"/>
                </a:moveTo>
                <a:cubicBezTo>
                  <a:pt x="6226" y="3679"/>
                  <a:pt x="6226" y="3671"/>
                  <a:pt x="6226" y="3646"/>
                </a:cubicBezTo>
                <a:cubicBezTo>
                  <a:pt x="6199" y="3727"/>
                  <a:pt x="6155" y="3812"/>
                  <a:pt x="6127" y="3894"/>
                </a:cubicBezTo>
                <a:cubicBezTo>
                  <a:pt x="6068" y="4066"/>
                  <a:pt x="6054" y="4239"/>
                  <a:pt x="6077" y="4415"/>
                </a:cubicBezTo>
                <a:cubicBezTo>
                  <a:pt x="6101" y="4596"/>
                  <a:pt x="6172" y="4763"/>
                  <a:pt x="6226" y="4936"/>
                </a:cubicBezTo>
                <a:cubicBezTo>
                  <a:pt x="6246" y="5001"/>
                  <a:pt x="6268" y="5046"/>
                  <a:pt x="627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52840" y="149076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7367" y="4192"/>
                </a:moveTo>
                <a:cubicBezTo>
                  <a:pt x="7415" y="4192"/>
                  <a:pt x="7473" y="4182"/>
                  <a:pt x="7516" y="4167"/>
                </a:cubicBezTo>
                <a:cubicBezTo>
                  <a:pt x="7575" y="4147"/>
                  <a:pt x="7601" y="4142"/>
                  <a:pt x="766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5960" y="1187280"/>
            <a:ext cx="482400" cy="554040"/>
          </a:xfrm>
          <a:custGeom>
            <a:avLst/>
            <a:gdLst/>
            <a:ahLst/>
            <a:rect l="l" t="t" r="r" b="b"/>
            <a:pathLst>
              <a:path w="1341" h="1539">
                <a:moveTo>
                  <a:pt x="8310" y="3646"/>
                </a:moveTo>
                <a:cubicBezTo>
                  <a:pt x="8330" y="3606"/>
                  <a:pt x="8328" y="3590"/>
                  <a:pt x="8359" y="3597"/>
                </a:cubicBezTo>
                <a:cubicBezTo>
                  <a:pt x="8337" y="3633"/>
                  <a:pt x="8296" y="3700"/>
                  <a:pt x="8285" y="3746"/>
                </a:cubicBezTo>
                <a:cubicBezTo>
                  <a:pt x="8273" y="3796"/>
                  <a:pt x="8285" y="3867"/>
                  <a:pt x="8285" y="3919"/>
                </a:cubicBezTo>
                <a:cubicBezTo>
                  <a:pt x="8364" y="3919"/>
                  <a:pt x="8379" y="3885"/>
                  <a:pt x="8458" y="3870"/>
                </a:cubicBezTo>
                <a:cubicBezTo>
                  <a:pt x="8517" y="3858"/>
                  <a:pt x="8570" y="3845"/>
                  <a:pt x="8632" y="3845"/>
                </a:cubicBezTo>
                <a:cubicBezTo>
                  <a:pt x="8648" y="3845"/>
                  <a:pt x="8770" y="3845"/>
                  <a:pt x="8706" y="3845"/>
                </a:cubicBezTo>
              </a:path>
              <a:path w="1341" h="1539">
                <a:moveTo>
                  <a:pt x="8483" y="3721"/>
                </a:moveTo>
                <a:cubicBezTo>
                  <a:pt x="8475" y="3704"/>
                  <a:pt x="8466" y="3688"/>
                  <a:pt x="8458" y="3671"/>
                </a:cubicBezTo>
                <a:cubicBezTo>
                  <a:pt x="8492" y="3693"/>
                  <a:pt x="8483" y="3719"/>
                  <a:pt x="8483" y="3770"/>
                </a:cubicBezTo>
                <a:cubicBezTo>
                  <a:pt x="8483" y="3836"/>
                  <a:pt x="8483" y="3903"/>
                  <a:pt x="8483" y="3969"/>
                </a:cubicBezTo>
              </a:path>
              <a:path w="1341" h="1539">
                <a:moveTo>
                  <a:pt x="8855" y="4118"/>
                </a:moveTo>
                <a:cubicBezTo>
                  <a:pt x="8837" y="4188"/>
                  <a:pt x="8817" y="4153"/>
                  <a:pt x="8756" y="4167"/>
                </a:cubicBezTo>
                <a:cubicBezTo>
                  <a:pt x="8656" y="4190"/>
                  <a:pt x="8562" y="4213"/>
                  <a:pt x="8458" y="4217"/>
                </a:cubicBezTo>
                <a:cubicBezTo>
                  <a:pt x="8370" y="4220"/>
                  <a:pt x="8307" y="4218"/>
                  <a:pt x="8235" y="4242"/>
                </a:cubicBezTo>
                <a:cubicBezTo>
                  <a:pt x="8227" y="4242"/>
                  <a:pt x="8218" y="4242"/>
                  <a:pt x="8210" y="4242"/>
                </a:cubicBezTo>
              </a:path>
              <a:path w="1341" h="1539">
                <a:moveTo>
                  <a:pt x="8285" y="4614"/>
                </a:moveTo>
                <a:cubicBezTo>
                  <a:pt x="8285" y="4638"/>
                  <a:pt x="8295" y="4594"/>
                  <a:pt x="8359" y="4589"/>
                </a:cubicBezTo>
                <a:cubicBezTo>
                  <a:pt x="8420" y="4584"/>
                  <a:pt x="8465" y="4635"/>
                  <a:pt x="8483" y="4688"/>
                </a:cubicBezTo>
                <a:cubicBezTo>
                  <a:pt x="8512" y="4777"/>
                  <a:pt x="8455" y="4785"/>
                  <a:pt x="8409" y="4812"/>
                </a:cubicBezTo>
                <a:cubicBezTo>
                  <a:pt x="8365" y="4838"/>
                  <a:pt x="8338" y="4837"/>
                  <a:pt x="8285" y="4837"/>
                </a:cubicBezTo>
              </a:path>
              <a:path w="1341" h="1539">
                <a:moveTo>
                  <a:pt x="8533" y="4564"/>
                </a:moveTo>
                <a:cubicBezTo>
                  <a:pt x="8555" y="4521"/>
                  <a:pt x="8558" y="4509"/>
                  <a:pt x="8582" y="4490"/>
                </a:cubicBezTo>
                <a:cubicBezTo>
                  <a:pt x="8528" y="4503"/>
                  <a:pt x="8501" y="4558"/>
                  <a:pt x="8483" y="4614"/>
                </a:cubicBezTo>
                <a:cubicBezTo>
                  <a:pt x="8469" y="4659"/>
                  <a:pt x="8544" y="4750"/>
                  <a:pt x="8582" y="4762"/>
                </a:cubicBezTo>
                <a:cubicBezTo>
                  <a:pt x="8634" y="4779"/>
                  <a:pt x="8686" y="4755"/>
                  <a:pt x="8731" y="4738"/>
                </a:cubicBezTo>
              </a:path>
              <a:path w="1341" h="1539">
                <a:moveTo>
                  <a:pt x="8855" y="3547"/>
                </a:moveTo>
                <a:cubicBezTo>
                  <a:pt x="8902" y="3567"/>
                  <a:pt x="8972" y="3576"/>
                  <a:pt x="9004" y="3621"/>
                </a:cubicBezTo>
                <a:cubicBezTo>
                  <a:pt x="9078" y="3724"/>
                  <a:pt x="9094" y="3873"/>
                  <a:pt x="9103" y="3994"/>
                </a:cubicBezTo>
                <a:cubicBezTo>
                  <a:pt x="9116" y="4166"/>
                  <a:pt x="9101" y="4310"/>
                  <a:pt x="9029" y="4465"/>
                </a:cubicBezTo>
                <a:cubicBezTo>
                  <a:pt x="8974" y="4585"/>
                  <a:pt x="8918" y="4690"/>
                  <a:pt x="8830" y="4787"/>
                </a:cubicBezTo>
              </a:path>
              <a:path w="1341" h="1539">
                <a:moveTo>
                  <a:pt x="9277" y="3423"/>
                </a:moveTo>
                <a:cubicBezTo>
                  <a:pt x="9277" y="3371"/>
                  <a:pt x="9272" y="3371"/>
                  <a:pt x="9302" y="3349"/>
                </a:cubicBezTo>
                <a:cubicBezTo>
                  <a:pt x="9346" y="3316"/>
                  <a:pt x="9343" y="3299"/>
                  <a:pt x="9401" y="3299"/>
                </a:cubicBezTo>
                <a:cubicBezTo>
                  <a:pt x="9464" y="3299"/>
                  <a:pt x="9451" y="3351"/>
                  <a:pt x="9451" y="3398"/>
                </a:cubicBezTo>
                <a:cubicBezTo>
                  <a:pt x="9451" y="3461"/>
                  <a:pt x="9442" y="3495"/>
                  <a:pt x="9426" y="3547"/>
                </a:cubicBezTo>
                <a:cubicBezTo>
                  <a:pt x="9414" y="3588"/>
                  <a:pt x="9414" y="3557"/>
                  <a:pt x="9401" y="3597"/>
                </a:cubicBezTo>
                <a:cubicBezTo>
                  <a:pt x="9441" y="3626"/>
                  <a:pt x="9493" y="3598"/>
                  <a:pt x="9525" y="3621"/>
                </a:cubicBezTo>
                <a:cubicBezTo>
                  <a:pt x="9535" y="3628"/>
                  <a:pt x="9545" y="3656"/>
                  <a:pt x="9550" y="3671"/>
                </a:cubicBezTo>
                <a:cubicBezTo>
                  <a:pt x="9495" y="3685"/>
                  <a:pt x="9463" y="3731"/>
                  <a:pt x="9401" y="3746"/>
                </a:cubicBezTo>
                <a:cubicBezTo>
                  <a:pt x="9376" y="3746"/>
                  <a:pt x="9368" y="3746"/>
                  <a:pt x="935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7800" y="139392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2729" y="3944"/>
                </a:moveTo>
                <a:cubicBezTo>
                  <a:pt x="2751" y="3913"/>
                  <a:pt x="2758" y="3884"/>
                  <a:pt x="2729" y="3870"/>
                </a:cubicBezTo>
                <a:cubicBezTo>
                  <a:pt x="2707" y="3859"/>
                  <a:pt x="2593" y="3882"/>
                  <a:pt x="2580" y="3894"/>
                </a:cubicBezTo>
                <a:cubicBezTo>
                  <a:pt x="2536" y="3934"/>
                  <a:pt x="2460" y="4012"/>
                  <a:pt x="2431" y="4068"/>
                </a:cubicBezTo>
                <a:cubicBezTo>
                  <a:pt x="2389" y="4149"/>
                  <a:pt x="2368" y="4253"/>
                  <a:pt x="2356" y="4341"/>
                </a:cubicBezTo>
                <a:cubicBezTo>
                  <a:pt x="2348" y="4399"/>
                  <a:pt x="2346" y="4471"/>
                  <a:pt x="2381" y="4514"/>
                </a:cubicBezTo>
                <a:cubicBezTo>
                  <a:pt x="2414" y="4555"/>
                  <a:pt x="2452" y="4585"/>
                  <a:pt x="2505" y="4589"/>
                </a:cubicBezTo>
                <a:cubicBezTo>
                  <a:pt x="2574" y="4594"/>
                  <a:pt x="2616" y="4555"/>
                  <a:pt x="2679" y="4539"/>
                </a:cubicBezTo>
                <a:cubicBezTo>
                  <a:pt x="2704" y="4539"/>
                  <a:pt x="2712" y="4539"/>
                  <a:pt x="2729" y="4539"/>
                </a:cubicBezTo>
              </a:path>
              <a:path w="2283" h="1142">
                <a:moveTo>
                  <a:pt x="2604" y="4465"/>
                </a:moveTo>
                <a:cubicBezTo>
                  <a:pt x="2553" y="4387"/>
                  <a:pt x="2563" y="4419"/>
                  <a:pt x="2480" y="4440"/>
                </a:cubicBezTo>
                <a:cubicBezTo>
                  <a:pt x="2444" y="4449"/>
                  <a:pt x="2435" y="4461"/>
                  <a:pt x="2406" y="4490"/>
                </a:cubicBezTo>
              </a:path>
              <a:path w="2283" h="1142">
                <a:moveTo>
                  <a:pt x="3026" y="4341"/>
                </a:moveTo>
                <a:cubicBezTo>
                  <a:pt x="3078" y="4341"/>
                  <a:pt x="3076" y="4343"/>
                  <a:pt x="3076" y="4291"/>
                </a:cubicBezTo>
                <a:cubicBezTo>
                  <a:pt x="3064" y="4353"/>
                  <a:pt x="3030" y="4407"/>
                  <a:pt x="3001" y="4465"/>
                </a:cubicBezTo>
                <a:cubicBezTo>
                  <a:pt x="2975" y="4516"/>
                  <a:pt x="2954" y="4593"/>
                  <a:pt x="2927" y="4638"/>
                </a:cubicBezTo>
                <a:cubicBezTo>
                  <a:pt x="2919" y="4646"/>
                  <a:pt x="2910" y="4655"/>
                  <a:pt x="2902" y="4663"/>
                </a:cubicBezTo>
              </a:path>
              <a:path w="2283" h="1142">
                <a:moveTo>
                  <a:pt x="3051" y="4564"/>
                </a:moveTo>
                <a:cubicBezTo>
                  <a:pt x="3092" y="4564"/>
                  <a:pt x="3100" y="4564"/>
                  <a:pt x="3125" y="4564"/>
                </a:cubicBezTo>
                <a:cubicBezTo>
                  <a:pt x="3104" y="4608"/>
                  <a:pt x="3096" y="4549"/>
                  <a:pt x="3051" y="4539"/>
                </a:cubicBezTo>
                <a:cubicBezTo>
                  <a:pt x="2996" y="4527"/>
                  <a:pt x="2951" y="4526"/>
                  <a:pt x="2902" y="4514"/>
                </a:cubicBezTo>
              </a:path>
              <a:path w="2283" h="1142">
                <a:moveTo>
                  <a:pt x="3225" y="4490"/>
                </a:moveTo>
                <a:cubicBezTo>
                  <a:pt x="3245" y="4449"/>
                  <a:pt x="3242" y="4432"/>
                  <a:pt x="3274" y="4440"/>
                </a:cubicBezTo>
                <a:cubicBezTo>
                  <a:pt x="3318" y="4455"/>
                  <a:pt x="3299" y="4511"/>
                  <a:pt x="3299" y="4564"/>
                </a:cubicBezTo>
                <a:cubicBezTo>
                  <a:pt x="3299" y="4676"/>
                  <a:pt x="3312" y="4779"/>
                  <a:pt x="3324" y="4887"/>
                </a:cubicBezTo>
                <a:cubicBezTo>
                  <a:pt x="3324" y="4955"/>
                  <a:pt x="3321" y="4974"/>
                  <a:pt x="3349" y="5011"/>
                </a:cubicBezTo>
              </a:path>
              <a:path w="2283" h="1142">
                <a:moveTo>
                  <a:pt x="3324" y="4638"/>
                </a:moveTo>
                <a:cubicBezTo>
                  <a:pt x="3324" y="4586"/>
                  <a:pt x="3300" y="4421"/>
                  <a:pt x="3349" y="4390"/>
                </a:cubicBezTo>
                <a:cubicBezTo>
                  <a:pt x="3409" y="4352"/>
                  <a:pt x="3455" y="4421"/>
                  <a:pt x="3473" y="4465"/>
                </a:cubicBezTo>
                <a:cubicBezTo>
                  <a:pt x="3499" y="4530"/>
                  <a:pt x="3517" y="4607"/>
                  <a:pt x="3473" y="4663"/>
                </a:cubicBezTo>
                <a:cubicBezTo>
                  <a:pt x="3440" y="4705"/>
                  <a:pt x="3391" y="4681"/>
                  <a:pt x="3349" y="4713"/>
                </a:cubicBezTo>
              </a:path>
              <a:path w="2283" h="1142">
                <a:moveTo>
                  <a:pt x="3671" y="4415"/>
                </a:moveTo>
                <a:cubicBezTo>
                  <a:pt x="3695" y="4384"/>
                  <a:pt x="3697" y="4372"/>
                  <a:pt x="3721" y="4341"/>
                </a:cubicBezTo>
                <a:cubicBezTo>
                  <a:pt x="3665" y="4341"/>
                  <a:pt x="3649" y="4353"/>
                  <a:pt x="3646" y="4415"/>
                </a:cubicBezTo>
                <a:cubicBezTo>
                  <a:pt x="3643" y="4472"/>
                  <a:pt x="3646" y="4531"/>
                  <a:pt x="3646" y="4589"/>
                </a:cubicBezTo>
                <a:cubicBezTo>
                  <a:pt x="3710" y="4589"/>
                  <a:pt x="3689" y="4560"/>
                  <a:pt x="3721" y="4539"/>
                </a:cubicBezTo>
                <a:cubicBezTo>
                  <a:pt x="3746" y="4522"/>
                  <a:pt x="3829" y="4554"/>
                  <a:pt x="3845" y="4564"/>
                </a:cubicBezTo>
                <a:cubicBezTo>
                  <a:pt x="3883" y="4587"/>
                  <a:pt x="3873" y="4589"/>
                  <a:pt x="3919" y="4589"/>
                </a:cubicBezTo>
              </a:path>
              <a:path w="2283" h="1142">
                <a:moveTo>
                  <a:pt x="3894" y="4465"/>
                </a:moveTo>
                <a:cubicBezTo>
                  <a:pt x="3929" y="4488"/>
                  <a:pt x="3926" y="4576"/>
                  <a:pt x="3944" y="4539"/>
                </a:cubicBezTo>
                <a:cubicBezTo>
                  <a:pt x="3958" y="4511"/>
                  <a:pt x="3961" y="4442"/>
                  <a:pt x="3969" y="4415"/>
                </a:cubicBezTo>
                <a:cubicBezTo>
                  <a:pt x="3982" y="4371"/>
                  <a:pt x="4017" y="4335"/>
                  <a:pt x="4068" y="4390"/>
                </a:cubicBezTo>
                <a:cubicBezTo>
                  <a:pt x="4111" y="4436"/>
                  <a:pt x="4145" y="4492"/>
                  <a:pt x="4192" y="4539"/>
                </a:cubicBezTo>
                <a:cubicBezTo>
                  <a:pt x="4217" y="4564"/>
                  <a:pt x="4225" y="4572"/>
                  <a:pt x="4242" y="4589"/>
                </a:cubicBezTo>
              </a:path>
              <a:path w="2283" h="1142">
                <a:moveTo>
                  <a:pt x="4242" y="4490"/>
                </a:moveTo>
                <a:cubicBezTo>
                  <a:pt x="4270" y="4429"/>
                  <a:pt x="4302" y="4373"/>
                  <a:pt x="4316" y="4316"/>
                </a:cubicBezTo>
                <a:cubicBezTo>
                  <a:pt x="4316" y="4388"/>
                  <a:pt x="4305" y="4456"/>
                  <a:pt x="4341" y="4514"/>
                </a:cubicBezTo>
                <a:cubicBezTo>
                  <a:pt x="4395" y="4447"/>
                  <a:pt x="4407" y="4353"/>
                  <a:pt x="4415" y="4266"/>
                </a:cubicBezTo>
                <a:cubicBezTo>
                  <a:pt x="4425" y="4153"/>
                  <a:pt x="4412" y="4048"/>
                  <a:pt x="4390" y="3944"/>
                </a:cubicBezTo>
                <a:cubicBezTo>
                  <a:pt x="4390" y="3936"/>
                  <a:pt x="4390" y="3927"/>
                  <a:pt x="4390" y="3919"/>
                </a:cubicBezTo>
                <a:cubicBezTo>
                  <a:pt x="4405" y="4011"/>
                  <a:pt x="4436" y="4128"/>
                  <a:pt x="4465" y="4217"/>
                </a:cubicBezTo>
                <a:cubicBezTo>
                  <a:pt x="4505" y="4342"/>
                  <a:pt x="4553" y="4397"/>
                  <a:pt x="463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78000" y="1312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6375" y="4266"/>
                </a:moveTo>
                <a:cubicBezTo>
                  <a:pt x="6375" y="4217"/>
                  <a:pt x="6358" y="4151"/>
                  <a:pt x="6400" y="4118"/>
                </a:cubicBezTo>
                <a:cubicBezTo>
                  <a:pt x="6473" y="4061"/>
                  <a:pt x="6547" y="4105"/>
                  <a:pt x="6598" y="4167"/>
                </a:cubicBezTo>
                <a:cubicBezTo>
                  <a:pt x="6676" y="4262"/>
                  <a:pt x="6689" y="4352"/>
                  <a:pt x="6648" y="4465"/>
                </a:cubicBezTo>
                <a:cubicBezTo>
                  <a:pt x="6621" y="4539"/>
                  <a:pt x="6571" y="4583"/>
                  <a:pt x="6499" y="4589"/>
                </a:cubicBezTo>
                <a:cubicBezTo>
                  <a:pt x="6471" y="4589"/>
                  <a:pt x="6460" y="4587"/>
                  <a:pt x="6449" y="4564"/>
                </a:cubicBezTo>
              </a:path>
              <a:path w="820" h="1465">
                <a:moveTo>
                  <a:pt x="6747" y="4118"/>
                </a:moveTo>
                <a:cubicBezTo>
                  <a:pt x="6798" y="4088"/>
                  <a:pt x="6832" y="4074"/>
                  <a:pt x="6846" y="4018"/>
                </a:cubicBezTo>
                <a:cubicBezTo>
                  <a:pt x="6784" y="4018"/>
                  <a:pt x="6758" y="4064"/>
                  <a:pt x="6722" y="4118"/>
                </a:cubicBezTo>
                <a:cubicBezTo>
                  <a:pt x="6680" y="4181"/>
                  <a:pt x="6678" y="4303"/>
                  <a:pt x="6722" y="4366"/>
                </a:cubicBezTo>
                <a:cubicBezTo>
                  <a:pt x="6770" y="4436"/>
                  <a:pt x="6806" y="4454"/>
                  <a:pt x="6871" y="4415"/>
                </a:cubicBezTo>
              </a:path>
              <a:path w="820" h="1465">
                <a:moveTo>
                  <a:pt x="6226" y="3721"/>
                </a:moveTo>
                <a:cubicBezTo>
                  <a:pt x="6226" y="3679"/>
                  <a:pt x="6226" y="3671"/>
                  <a:pt x="6226" y="3646"/>
                </a:cubicBezTo>
                <a:cubicBezTo>
                  <a:pt x="6199" y="3727"/>
                  <a:pt x="6155" y="3812"/>
                  <a:pt x="6127" y="3894"/>
                </a:cubicBezTo>
                <a:cubicBezTo>
                  <a:pt x="6068" y="4066"/>
                  <a:pt x="6054" y="4239"/>
                  <a:pt x="6077" y="4415"/>
                </a:cubicBezTo>
                <a:cubicBezTo>
                  <a:pt x="6101" y="4596"/>
                  <a:pt x="6172" y="4763"/>
                  <a:pt x="6226" y="4936"/>
                </a:cubicBezTo>
                <a:cubicBezTo>
                  <a:pt x="6246" y="5001"/>
                  <a:pt x="6268" y="5046"/>
                  <a:pt x="627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2840" y="149076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7367" y="4192"/>
                </a:moveTo>
                <a:cubicBezTo>
                  <a:pt x="7415" y="4192"/>
                  <a:pt x="7473" y="4182"/>
                  <a:pt x="7516" y="4167"/>
                </a:cubicBezTo>
                <a:cubicBezTo>
                  <a:pt x="7575" y="4147"/>
                  <a:pt x="7601" y="4142"/>
                  <a:pt x="766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55960" y="1187280"/>
            <a:ext cx="482400" cy="554040"/>
          </a:xfrm>
          <a:custGeom>
            <a:avLst/>
            <a:gdLst/>
            <a:ahLst/>
            <a:rect l="l" t="t" r="r" b="b"/>
            <a:pathLst>
              <a:path w="1341" h="1539">
                <a:moveTo>
                  <a:pt x="8310" y="3646"/>
                </a:moveTo>
                <a:cubicBezTo>
                  <a:pt x="8330" y="3606"/>
                  <a:pt x="8328" y="3590"/>
                  <a:pt x="8359" y="3597"/>
                </a:cubicBezTo>
                <a:cubicBezTo>
                  <a:pt x="8337" y="3633"/>
                  <a:pt x="8296" y="3700"/>
                  <a:pt x="8285" y="3746"/>
                </a:cubicBezTo>
                <a:cubicBezTo>
                  <a:pt x="8273" y="3796"/>
                  <a:pt x="8285" y="3867"/>
                  <a:pt x="8285" y="3919"/>
                </a:cubicBezTo>
                <a:cubicBezTo>
                  <a:pt x="8364" y="3919"/>
                  <a:pt x="8379" y="3885"/>
                  <a:pt x="8458" y="3870"/>
                </a:cubicBezTo>
                <a:cubicBezTo>
                  <a:pt x="8517" y="3858"/>
                  <a:pt x="8570" y="3845"/>
                  <a:pt x="8632" y="3845"/>
                </a:cubicBezTo>
                <a:cubicBezTo>
                  <a:pt x="8648" y="3845"/>
                  <a:pt x="8770" y="3845"/>
                  <a:pt x="8706" y="3845"/>
                </a:cubicBezTo>
              </a:path>
              <a:path w="1341" h="1539">
                <a:moveTo>
                  <a:pt x="8483" y="3721"/>
                </a:moveTo>
                <a:cubicBezTo>
                  <a:pt x="8475" y="3704"/>
                  <a:pt x="8466" y="3688"/>
                  <a:pt x="8458" y="3671"/>
                </a:cubicBezTo>
                <a:cubicBezTo>
                  <a:pt x="8492" y="3693"/>
                  <a:pt x="8483" y="3719"/>
                  <a:pt x="8483" y="3770"/>
                </a:cubicBezTo>
                <a:cubicBezTo>
                  <a:pt x="8483" y="3836"/>
                  <a:pt x="8483" y="3903"/>
                  <a:pt x="8483" y="3969"/>
                </a:cubicBezTo>
              </a:path>
              <a:path w="1341" h="1539">
                <a:moveTo>
                  <a:pt x="8855" y="4118"/>
                </a:moveTo>
                <a:cubicBezTo>
                  <a:pt x="8837" y="4188"/>
                  <a:pt x="8817" y="4153"/>
                  <a:pt x="8756" y="4167"/>
                </a:cubicBezTo>
                <a:cubicBezTo>
                  <a:pt x="8656" y="4190"/>
                  <a:pt x="8562" y="4213"/>
                  <a:pt x="8458" y="4217"/>
                </a:cubicBezTo>
                <a:cubicBezTo>
                  <a:pt x="8370" y="4220"/>
                  <a:pt x="8307" y="4218"/>
                  <a:pt x="8235" y="4242"/>
                </a:cubicBezTo>
                <a:cubicBezTo>
                  <a:pt x="8227" y="4242"/>
                  <a:pt x="8218" y="4242"/>
                  <a:pt x="8210" y="4242"/>
                </a:cubicBezTo>
              </a:path>
              <a:path w="1341" h="1539">
                <a:moveTo>
                  <a:pt x="8285" y="4614"/>
                </a:moveTo>
                <a:cubicBezTo>
                  <a:pt x="8285" y="4638"/>
                  <a:pt x="8295" y="4594"/>
                  <a:pt x="8359" y="4589"/>
                </a:cubicBezTo>
                <a:cubicBezTo>
                  <a:pt x="8420" y="4584"/>
                  <a:pt x="8465" y="4635"/>
                  <a:pt x="8483" y="4688"/>
                </a:cubicBezTo>
                <a:cubicBezTo>
                  <a:pt x="8512" y="4777"/>
                  <a:pt x="8455" y="4785"/>
                  <a:pt x="8409" y="4812"/>
                </a:cubicBezTo>
                <a:cubicBezTo>
                  <a:pt x="8365" y="4838"/>
                  <a:pt x="8338" y="4837"/>
                  <a:pt x="8285" y="4837"/>
                </a:cubicBezTo>
              </a:path>
              <a:path w="1341" h="1539">
                <a:moveTo>
                  <a:pt x="8533" y="4564"/>
                </a:moveTo>
                <a:cubicBezTo>
                  <a:pt x="8555" y="4521"/>
                  <a:pt x="8558" y="4509"/>
                  <a:pt x="8582" y="4490"/>
                </a:cubicBezTo>
                <a:cubicBezTo>
                  <a:pt x="8528" y="4503"/>
                  <a:pt x="8501" y="4558"/>
                  <a:pt x="8483" y="4614"/>
                </a:cubicBezTo>
                <a:cubicBezTo>
                  <a:pt x="8469" y="4659"/>
                  <a:pt x="8544" y="4750"/>
                  <a:pt x="8582" y="4762"/>
                </a:cubicBezTo>
                <a:cubicBezTo>
                  <a:pt x="8634" y="4779"/>
                  <a:pt x="8686" y="4755"/>
                  <a:pt x="8731" y="4738"/>
                </a:cubicBezTo>
              </a:path>
              <a:path w="1341" h="1539">
                <a:moveTo>
                  <a:pt x="8855" y="3547"/>
                </a:moveTo>
                <a:cubicBezTo>
                  <a:pt x="8902" y="3567"/>
                  <a:pt x="8972" y="3576"/>
                  <a:pt x="9004" y="3621"/>
                </a:cubicBezTo>
                <a:cubicBezTo>
                  <a:pt x="9078" y="3724"/>
                  <a:pt x="9094" y="3873"/>
                  <a:pt x="9103" y="3994"/>
                </a:cubicBezTo>
                <a:cubicBezTo>
                  <a:pt x="9116" y="4166"/>
                  <a:pt x="9101" y="4310"/>
                  <a:pt x="9029" y="4465"/>
                </a:cubicBezTo>
                <a:cubicBezTo>
                  <a:pt x="8974" y="4585"/>
                  <a:pt x="8918" y="4690"/>
                  <a:pt x="8830" y="4787"/>
                </a:cubicBezTo>
              </a:path>
              <a:path w="1341" h="1539">
                <a:moveTo>
                  <a:pt x="9277" y="3423"/>
                </a:moveTo>
                <a:cubicBezTo>
                  <a:pt x="9277" y="3371"/>
                  <a:pt x="9272" y="3371"/>
                  <a:pt x="9302" y="3349"/>
                </a:cubicBezTo>
                <a:cubicBezTo>
                  <a:pt x="9346" y="3316"/>
                  <a:pt x="9343" y="3299"/>
                  <a:pt x="9401" y="3299"/>
                </a:cubicBezTo>
                <a:cubicBezTo>
                  <a:pt x="9464" y="3299"/>
                  <a:pt x="9451" y="3351"/>
                  <a:pt x="9451" y="3398"/>
                </a:cubicBezTo>
                <a:cubicBezTo>
                  <a:pt x="9451" y="3461"/>
                  <a:pt x="9442" y="3495"/>
                  <a:pt x="9426" y="3547"/>
                </a:cubicBezTo>
                <a:cubicBezTo>
                  <a:pt x="9414" y="3588"/>
                  <a:pt x="9414" y="3557"/>
                  <a:pt x="9401" y="3597"/>
                </a:cubicBezTo>
                <a:cubicBezTo>
                  <a:pt x="9441" y="3626"/>
                  <a:pt x="9493" y="3598"/>
                  <a:pt x="9525" y="3621"/>
                </a:cubicBezTo>
                <a:cubicBezTo>
                  <a:pt x="9535" y="3628"/>
                  <a:pt x="9545" y="3656"/>
                  <a:pt x="9550" y="3671"/>
                </a:cubicBezTo>
                <a:cubicBezTo>
                  <a:pt x="9495" y="3685"/>
                  <a:pt x="9463" y="3731"/>
                  <a:pt x="9401" y="3746"/>
                </a:cubicBezTo>
                <a:cubicBezTo>
                  <a:pt x="9376" y="3746"/>
                  <a:pt x="9368" y="3746"/>
                  <a:pt x="935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00120" y="2160720"/>
            <a:ext cx="2170080" cy="635040"/>
            <a:chOff x="1500120" y="2160720"/>
            <a:chExt cx="2170080" cy="635040"/>
          </a:xfrm>
        </p:grpSpPr>
        <p:sp>
          <p:nvSpPr>
            <p:cNvPr id="66" name=""/>
            <p:cNvSpPr/>
            <p:nvPr/>
          </p:nvSpPr>
          <p:spPr>
            <a:xfrm>
              <a:off x="1500120" y="2581200"/>
              <a:ext cx="108000" cy="88920"/>
            </a:xfrm>
            <a:custGeom>
              <a:avLst/>
              <a:gdLst/>
              <a:ahLst/>
              <a:rect l="l" t="t" r="r" b="b"/>
              <a:pathLst>
                <a:path w="299" h="249">
                  <a:moveTo>
                    <a:pt x="4415" y="7218"/>
                  </a:moveTo>
                  <a:cubicBezTo>
                    <a:pt x="4437" y="7196"/>
                    <a:pt x="4446" y="7191"/>
                    <a:pt x="4440" y="7169"/>
                  </a:cubicBezTo>
                  <a:cubicBezTo>
                    <a:pt x="4358" y="7169"/>
                    <a:pt x="4294" y="7174"/>
                    <a:pt x="4217" y="7193"/>
                  </a:cubicBezTo>
                  <a:cubicBezTo>
                    <a:pt x="4192" y="7193"/>
                    <a:pt x="4184" y="7193"/>
                    <a:pt x="4167" y="7193"/>
                  </a:cubicBezTo>
                </a:path>
                <a:path w="299" h="249">
                  <a:moveTo>
                    <a:pt x="4440" y="7367"/>
                  </a:moveTo>
                  <a:cubicBezTo>
                    <a:pt x="4448" y="7367"/>
                    <a:pt x="4457" y="7367"/>
                    <a:pt x="4465" y="7367"/>
                  </a:cubicBezTo>
                  <a:cubicBezTo>
                    <a:pt x="4414" y="7367"/>
                    <a:pt x="4379" y="7358"/>
                    <a:pt x="4341" y="7392"/>
                  </a:cubicBezTo>
                  <a:cubicBezTo>
                    <a:pt x="4333" y="7400"/>
                    <a:pt x="4324" y="7409"/>
                    <a:pt x="4316" y="741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3800" y="2259000"/>
              <a:ext cx="73080" cy="536760"/>
            </a:xfrm>
            <a:custGeom>
              <a:avLst/>
              <a:gdLst/>
              <a:ahLst/>
              <a:rect l="l" t="t" r="r" b="b"/>
              <a:pathLst>
                <a:path w="199" h="1489">
                  <a:moveTo>
                    <a:pt x="5531" y="6276"/>
                  </a:moveTo>
                  <a:cubicBezTo>
                    <a:pt x="5542" y="6324"/>
                    <a:pt x="5532" y="6386"/>
                    <a:pt x="5507" y="6474"/>
                  </a:cubicBezTo>
                  <a:cubicBezTo>
                    <a:pt x="5466" y="6621"/>
                    <a:pt x="5457" y="6744"/>
                    <a:pt x="5457" y="6896"/>
                  </a:cubicBezTo>
                  <a:cubicBezTo>
                    <a:pt x="5457" y="7082"/>
                    <a:pt x="5495" y="7259"/>
                    <a:pt x="5531" y="7441"/>
                  </a:cubicBezTo>
                  <a:cubicBezTo>
                    <a:pt x="5554" y="7561"/>
                    <a:pt x="5607" y="7653"/>
                    <a:pt x="5655" y="776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52800" y="2438280"/>
              <a:ext cx="177480" cy="177840"/>
            </a:xfrm>
            <a:custGeom>
              <a:avLst/>
              <a:gdLst/>
              <a:ahLst/>
              <a:rect l="l" t="t" r="r" b="b"/>
              <a:pathLst>
                <a:path w="497" h="497">
                  <a:moveTo>
                    <a:pt x="6003" y="7020"/>
                  </a:moveTo>
                  <a:cubicBezTo>
                    <a:pt x="5981" y="7013"/>
                    <a:pt x="5958" y="6981"/>
                    <a:pt x="5978" y="6945"/>
                  </a:cubicBezTo>
                  <a:cubicBezTo>
                    <a:pt x="6002" y="6903"/>
                    <a:pt x="6034" y="6896"/>
                    <a:pt x="6077" y="6896"/>
                  </a:cubicBezTo>
                  <a:cubicBezTo>
                    <a:pt x="6154" y="6896"/>
                    <a:pt x="6190" y="6995"/>
                    <a:pt x="6201" y="7069"/>
                  </a:cubicBezTo>
                  <a:cubicBezTo>
                    <a:pt x="6210" y="7126"/>
                    <a:pt x="6213" y="7234"/>
                    <a:pt x="6152" y="7268"/>
                  </a:cubicBezTo>
                  <a:cubicBezTo>
                    <a:pt x="6139" y="7275"/>
                    <a:pt x="6093" y="7268"/>
                    <a:pt x="6077" y="7268"/>
                  </a:cubicBezTo>
                </a:path>
                <a:path w="497" h="497">
                  <a:moveTo>
                    <a:pt x="6276" y="6871"/>
                  </a:moveTo>
                  <a:cubicBezTo>
                    <a:pt x="6321" y="6805"/>
                    <a:pt x="6362" y="6723"/>
                    <a:pt x="6300" y="6821"/>
                  </a:cubicBezTo>
                  <a:cubicBezTo>
                    <a:pt x="6254" y="6894"/>
                    <a:pt x="6271" y="6993"/>
                    <a:pt x="6300" y="7069"/>
                  </a:cubicBezTo>
                  <a:cubicBezTo>
                    <a:pt x="6330" y="7149"/>
                    <a:pt x="6375" y="7165"/>
                    <a:pt x="6449" y="7119"/>
                  </a:cubicBezTo>
                  <a:cubicBezTo>
                    <a:pt x="6457" y="7111"/>
                    <a:pt x="6466" y="7102"/>
                    <a:pt x="6474" y="709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17840" y="2490840"/>
              <a:ext cx="81000" cy="19080"/>
            </a:xfrm>
            <a:custGeom>
              <a:avLst/>
              <a:gdLst/>
              <a:ahLst/>
              <a:rect l="l" t="t" r="r" b="b"/>
              <a:pathLst>
                <a:path w="224" h="50">
                  <a:moveTo>
                    <a:pt x="6995" y="6970"/>
                  </a:moveTo>
                  <a:cubicBezTo>
                    <a:pt x="6995" y="6962"/>
                    <a:pt x="6995" y="6953"/>
                    <a:pt x="6995" y="6945"/>
                  </a:cubicBezTo>
                  <a:cubicBezTo>
                    <a:pt x="7047" y="6945"/>
                    <a:pt x="7069" y="6929"/>
                    <a:pt x="7119" y="6921"/>
                  </a:cubicBezTo>
                  <a:cubicBezTo>
                    <a:pt x="7169" y="6921"/>
                    <a:pt x="7185" y="6921"/>
                    <a:pt x="7218" y="69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57680" y="2259000"/>
              <a:ext cx="634680" cy="366840"/>
            </a:xfrm>
            <a:custGeom>
              <a:avLst/>
              <a:gdLst/>
              <a:ahLst/>
              <a:rect l="l" t="t" r="r" b="b"/>
              <a:pathLst>
                <a:path w="1762" h="1018">
                  <a:moveTo>
                    <a:pt x="7938" y="6623"/>
                  </a:moveTo>
                  <a:cubicBezTo>
                    <a:pt x="7952" y="6598"/>
                    <a:pt x="7987" y="6498"/>
                    <a:pt x="7987" y="6548"/>
                  </a:cubicBezTo>
                  <a:cubicBezTo>
                    <a:pt x="7987" y="6597"/>
                    <a:pt x="7972" y="6696"/>
                    <a:pt x="7962" y="6747"/>
                  </a:cubicBezTo>
                  <a:cubicBezTo>
                    <a:pt x="7948" y="6820"/>
                    <a:pt x="7911" y="6882"/>
                    <a:pt x="7962" y="6945"/>
                  </a:cubicBezTo>
                  <a:cubicBezTo>
                    <a:pt x="7994" y="6986"/>
                    <a:pt x="8030" y="7011"/>
                    <a:pt x="8086" y="6995"/>
                  </a:cubicBezTo>
                  <a:cubicBezTo>
                    <a:pt x="8133" y="6981"/>
                    <a:pt x="8191" y="6962"/>
                    <a:pt x="8235" y="6945"/>
                  </a:cubicBezTo>
                  <a:cubicBezTo>
                    <a:pt x="8287" y="6925"/>
                    <a:pt x="8305" y="6921"/>
                    <a:pt x="8359" y="6921"/>
                  </a:cubicBezTo>
                  <a:cubicBezTo>
                    <a:pt x="8398" y="6921"/>
                    <a:pt x="8384" y="6937"/>
                    <a:pt x="8384" y="6970"/>
                  </a:cubicBezTo>
                  <a:cubicBezTo>
                    <a:pt x="8359" y="6970"/>
                    <a:pt x="8351" y="6970"/>
                    <a:pt x="8359" y="6945"/>
                  </a:cubicBezTo>
                </a:path>
                <a:path w="1762" h="1018">
                  <a:moveTo>
                    <a:pt x="8161" y="6821"/>
                  </a:moveTo>
                  <a:cubicBezTo>
                    <a:pt x="8161" y="6753"/>
                    <a:pt x="8161" y="6906"/>
                    <a:pt x="8161" y="6921"/>
                  </a:cubicBezTo>
                  <a:cubicBezTo>
                    <a:pt x="8161" y="6990"/>
                    <a:pt x="8186" y="7049"/>
                    <a:pt x="8186" y="7119"/>
                  </a:cubicBezTo>
                </a:path>
                <a:path w="1762" h="1018">
                  <a:moveTo>
                    <a:pt x="8582" y="6871"/>
                  </a:moveTo>
                  <a:cubicBezTo>
                    <a:pt x="8574" y="6879"/>
                    <a:pt x="8566" y="6888"/>
                    <a:pt x="8558" y="6896"/>
                  </a:cubicBezTo>
                  <a:cubicBezTo>
                    <a:pt x="8568" y="6854"/>
                    <a:pt x="8585" y="6826"/>
                    <a:pt x="8632" y="6821"/>
                  </a:cubicBezTo>
                  <a:cubicBezTo>
                    <a:pt x="8683" y="6815"/>
                    <a:pt x="8722" y="6904"/>
                    <a:pt x="8731" y="6945"/>
                  </a:cubicBezTo>
                  <a:cubicBezTo>
                    <a:pt x="8743" y="7001"/>
                    <a:pt x="8738" y="7078"/>
                    <a:pt x="8706" y="7119"/>
                  </a:cubicBezTo>
                  <a:cubicBezTo>
                    <a:pt x="8664" y="7173"/>
                    <a:pt x="8627" y="7130"/>
                    <a:pt x="8582" y="7119"/>
                  </a:cubicBezTo>
                </a:path>
                <a:path w="1762" h="1018">
                  <a:moveTo>
                    <a:pt x="8781" y="6796"/>
                  </a:moveTo>
                  <a:cubicBezTo>
                    <a:pt x="8854" y="6774"/>
                    <a:pt x="8788" y="6846"/>
                    <a:pt x="8781" y="6896"/>
                  </a:cubicBezTo>
                  <a:cubicBezTo>
                    <a:pt x="8774" y="6944"/>
                    <a:pt x="8755" y="7149"/>
                    <a:pt x="8806" y="7169"/>
                  </a:cubicBezTo>
                  <a:cubicBezTo>
                    <a:pt x="8862" y="7191"/>
                    <a:pt x="8928" y="7108"/>
                    <a:pt x="8954" y="7069"/>
                  </a:cubicBezTo>
                  <a:cubicBezTo>
                    <a:pt x="8976" y="7026"/>
                    <a:pt x="8980" y="7014"/>
                    <a:pt x="9004" y="6995"/>
                  </a:cubicBezTo>
                </a:path>
                <a:path w="1762" h="1018">
                  <a:moveTo>
                    <a:pt x="9103" y="6747"/>
                  </a:moveTo>
                  <a:cubicBezTo>
                    <a:pt x="9095" y="6739"/>
                    <a:pt x="9087" y="6730"/>
                    <a:pt x="9079" y="6722"/>
                  </a:cubicBezTo>
                  <a:cubicBezTo>
                    <a:pt x="9137" y="6722"/>
                    <a:pt x="9194" y="6722"/>
                    <a:pt x="9252" y="6722"/>
                  </a:cubicBezTo>
                </a:path>
                <a:path w="1762" h="1018">
                  <a:moveTo>
                    <a:pt x="9376" y="6598"/>
                  </a:moveTo>
                  <a:cubicBezTo>
                    <a:pt x="9376" y="6570"/>
                    <a:pt x="9378" y="6559"/>
                    <a:pt x="9401" y="6548"/>
                  </a:cubicBezTo>
                  <a:cubicBezTo>
                    <a:pt x="9401" y="6632"/>
                    <a:pt x="9385" y="6729"/>
                    <a:pt x="9426" y="6796"/>
                  </a:cubicBezTo>
                </a:path>
                <a:path w="1762" h="1018">
                  <a:moveTo>
                    <a:pt x="9401" y="6375"/>
                  </a:moveTo>
                  <a:cubicBezTo>
                    <a:pt x="9422" y="6327"/>
                    <a:pt x="9447" y="6251"/>
                    <a:pt x="9525" y="6276"/>
                  </a:cubicBezTo>
                  <a:cubicBezTo>
                    <a:pt x="9606" y="6302"/>
                    <a:pt x="9649" y="6426"/>
                    <a:pt x="9674" y="6499"/>
                  </a:cubicBezTo>
                  <a:cubicBezTo>
                    <a:pt x="9720" y="6632"/>
                    <a:pt x="9717" y="6831"/>
                    <a:pt x="9699" y="6970"/>
                  </a:cubicBezTo>
                  <a:cubicBezTo>
                    <a:pt x="9684" y="7091"/>
                    <a:pt x="9646" y="7200"/>
                    <a:pt x="9575" y="729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81280" y="2160720"/>
              <a:ext cx="88920" cy="196560"/>
            </a:xfrm>
            <a:custGeom>
              <a:avLst/>
              <a:gdLst/>
              <a:ahLst/>
              <a:rect l="l" t="t" r="r" b="b"/>
              <a:pathLst>
                <a:path w="249" h="546">
                  <a:moveTo>
                    <a:pt x="9971" y="6127"/>
                  </a:moveTo>
                  <a:cubicBezTo>
                    <a:pt x="9939" y="6082"/>
                    <a:pt x="9938" y="6076"/>
                    <a:pt x="9971" y="6052"/>
                  </a:cubicBezTo>
                  <a:cubicBezTo>
                    <a:pt x="10000" y="6031"/>
                    <a:pt x="10053" y="5979"/>
                    <a:pt x="10096" y="6003"/>
                  </a:cubicBezTo>
                  <a:cubicBezTo>
                    <a:pt x="10120" y="6017"/>
                    <a:pt x="10178" y="6099"/>
                    <a:pt x="10170" y="6127"/>
                  </a:cubicBezTo>
                  <a:cubicBezTo>
                    <a:pt x="10160" y="6162"/>
                    <a:pt x="10114" y="6224"/>
                    <a:pt x="10096" y="6251"/>
                  </a:cubicBezTo>
                  <a:cubicBezTo>
                    <a:pt x="10066" y="6296"/>
                    <a:pt x="10052" y="6330"/>
                    <a:pt x="10096" y="6350"/>
                  </a:cubicBezTo>
                  <a:cubicBezTo>
                    <a:pt x="10133" y="6367"/>
                    <a:pt x="10191" y="6393"/>
                    <a:pt x="10195" y="6424"/>
                  </a:cubicBezTo>
                  <a:cubicBezTo>
                    <a:pt x="10205" y="6501"/>
                    <a:pt x="10175" y="6502"/>
                    <a:pt x="10120" y="6524"/>
                  </a:cubicBezTo>
                  <a:cubicBezTo>
                    <a:pt x="10104" y="6532"/>
                    <a:pt x="10087" y="6540"/>
                    <a:pt x="10071" y="654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7800" y="139392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2729" y="3944"/>
                </a:moveTo>
                <a:cubicBezTo>
                  <a:pt x="2751" y="3913"/>
                  <a:pt x="2758" y="3884"/>
                  <a:pt x="2729" y="3870"/>
                </a:cubicBezTo>
                <a:cubicBezTo>
                  <a:pt x="2707" y="3859"/>
                  <a:pt x="2593" y="3882"/>
                  <a:pt x="2580" y="3894"/>
                </a:cubicBezTo>
                <a:cubicBezTo>
                  <a:pt x="2536" y="3934"/>
                  <a:pt x="2460" y="4012"/>
                  <a:pt x="2431" y="4068"/>
                </a:cubicBezTo>
                <a:cubicBezTo>
                  <a:pt x="2389" y="4149"/>
                  <a:pt x="2368" y="4253"/>
                  <a:pt x="2356" y="4341"/>
                </a:cubicBezTo>
                <a:cubicBezTo>
                  <a:pt x="2348" y="4399"/>
                  <a:pt x="2346" y="4471"/>
                  <a:pt x="2381" y="4514"/>
                </a:cubicBezTo>
                <a:cubicBezTo>
                  <a:pt x="2414" y="4555"/>
                  <a:pt x="2452" y="4585"/>
                  <a:pt x="2505" y="4589"/>
                </a:cubicBezTo>
                <a:cubicBezTo>
                  <a:pt x="2574" y="4594"/>
                  <a:pt x="2616" y="4555"/>
                  <a:pt x="2679" y="4539"/>
                </a:cubicBezTo>
                <a:cubicBezTo>
                  <a:pt x="2704" y="4539"/>
                  <a:pt x="2712" y="4539"/>
                  <a:pt x="2729" y="4539"/>
                </a:cubicBezTo>
              </a:path>
              <a:path w="2283" h="1142">
                <a:moveTo>
                  <a:pt x="2604" y="4465"/>
                </a:moveTo>
                <a:cubicBezTo>
                  <a:pt x="2553" y="4387"/>
                  <a:pt x="2563" y="4419"/>
                  <a:pt x="2480" y="4440"/>
                </a:cubicBezTo>
                <a:cubicBezTo>
                  <a:pt x="2444" y="4449"/>
                  <a:pt x="2435" y="4461"/>
                  <a:pt x="2406" y="4490"/>
                </a:cubicBezTo>
              </a:path>
              <a:path w="2283" h="1142">
                <a:moveTo>
                  <a:pt x="3026" y="4341"/>
                </a:moveTo>
                <a:cubicBezTo>
                  <a:pt x="3078" y="4341"/>
                  <a:pt x="3076" y="4343"/>
                  <a:pt x="3076" y="4291"/>
                </a:cubicBezTo>
                <a:cubicBezTo>
                  <a:pt x="3064" y="4353"/>
                  <a:pt x="3030" y="4407"/>
                  <a:pt x="3001" y="4465"/>
                </a:cubicBezTo>
                <a:cubicBezTo>
                  <a:pt x="2975" y="4516"/>
                  <a:pt x="2954" y="4593"/>
                  <a:pt x="2927" y="4638"/>
                </a:cubicBezTo>
                <a:cubicBezTo>
                  <a:pt x="2919" y="4646"/>
                  <a:pt x="2910" y="4655"/>
                  <a:pt x="2902" y="4663"/>
                </a:cubicBezTo>
              </a:path>
              <a:path w="2283" h="1142">
                <a:moveTo>
                  <a:pt x="3051" y="4564"/>
                </a:moveTo>
                <a:cubicBezTo>
                  <a:pt x="3092" y="4564"/>
                  <a:pt x="3100" y="4564"/>
                  <a:pt x="3125" y="4564"/>
                </a:cubicBezTo>
                <a:cubicBezTo>
                  <a:pt x="3104" y="4608"/>
                  <a:pt x="3096" y="4549"/>
                  <a:pt x="3051" y="4539"/>
                </a:cubicBezTo>
                <a:cubicBezTo>
                  <a:pt x="2996" y="4527"/>
                  <a:pt x="2951" y="4526"/>
                  <a:pt x="2902" y="4514"/>
                </a:cubicBezTo>
              </a:path>
              <a:path w="2283" h="1142">
                <a:moveTo>
                  <a:pt x="3225" y="4490"/>
                </a:moveTo>
                <a:cubicBezTo>
                  <a:pt x="3245" y="4449"/>
                  <a:pt x="3242" y="4432"/>
                  <a:pt x="3274" y="4440"/>
                </a:cubicBezTo>
                <a:cubicBezTo>
                  <a:pt x="3318" y="4455"/>
                  <a:pt x="3299" y="4511"/>
                  <a:pt x="3299" y="4564"/>
                </a:cubicBezTo>
                <a:cubicBezTo>
                  <a:pt x="3299" y="4676"/>
                  <a:pt x="3312" y="4779"/>
                  <a:pt x="3324" y="4887"/>
                </a:cubicBezTo>
                <a:cubicBezTo>
                  <a:pt x="3324" y="4955"/>
                  <a:pt x="3321" y="4974"/>
                  <a:pt x="3349" y="5011"/>
                </a:cubicBezTo>
              </a:path>
              <a:path w="2283" h="1142">
                <a:moveTo>
                  <a:pt x="3324" y="4638"/>
                </a:moveTo>
                <a:cubicBezTo>
                  <a:pt x="3324" y="4586"/>
                  <a:pt x="3300" y="4421"/>
                  <a:pt x="3349" y="4390"/>
                </a:cubicBezTo>
                <a:cubicBezTo>
                  <a:pt x="3409" y="4352"/>
                  <a:pt x="3455" y="4421"/>
                  <a:pt x="3473" y="4465"/>
                </a:cubicBezTo>
                <a:cubicBezTo>
                  <a:pt x="3499" y="4530"/>
                  <a:pt x="3517" y="4607"/>
                  <a:pt x="3473" y="4663"/>
                </a:cubicBezTo>
                <a:cubicBezTo>
                  <a:pt x="3440" y="4705"/>
                  <a:pt x="3391" y="4681"/>
                  <a:pt x="3349" y="4713"/>
                </a:cubicBezTo>
              </a:path>
              <a:path w="2283" h="1142">
                <a:moveTo>
                  <a:pt x="3671" y="4415"/>
                </a:moveTo>
                <a:cubicBezTo>
                  <a:pt x="3695" y="4384"/>
                  <a:pt x="3697" y="4372"/>
                  <a:pt x="3721" y="4341"/>
                </a:cubicBezTo>
                <a:cubicBezTo>
                  <a:pt x="3665" y="4341"/>
                  <a:pt x="3649" y="4353"/>
                  <a:pt x="3646" y="4415"/>
                </a:cubicBezTo>
                <a:cubicBezTo>
                  <a:pt x="3643" y="4472"/>
                  <a:pt x="3646" y="4531"/>
                  <a:pt x="3646" y="4589"/>
                </a:cubicBezTo>
                <a:cubicBezTo>
                  <a:pt x="3710" y="4589"/>
                  <a:pt x="3689" y="4560"/>
                  <a:pt x="3721" y="4539"/>
                </a:cubicBezTo>
                <a:cubicBezTo>
                  <a:pt x="3746" y="4522"/>
                  <a:pt x="3829" y="4554"/>
                  <a:pt x="3845" y="4564"/>
                </a:cubicBezTo>
                <a:cubicBezTo>
                  <a:pt x="3883" y="4587"/>
                  <a:pt x="3873" y="4589"/>
                  <a:pt x="3919" y="4589"/>
                </a:cubicBezTo>
              </a:path>
              <a:path w="2283" h="1142">
                <a:moveTo>
                  <a:pt x="3894" y="4465"/>
                </a:moveTo>
                <a:cubicBezTo>
                  <a:pt x="3929" y="4488"/>
                  <a:pt x="3926" y="4576"/>
                  <a:pt x="3944" y="4539"/>
                </a:cubicBezTo>
                <a:cubicBezTo>
                  <a:pt x="3958" y="4511"/>
                  <a:pt x="3961" y="4442"/>
                  <a:pt x="3969" y="4415"/>
                </a:cubicBezTo>
                <a:cubicBezTo>
                  <a:pt x="3982" y="4371"/>
                  <a:pt x="4017" y="4335"/>
                  <a:pt x="4068" y="4390"/>
                </a:cubicBezTo>
                <a:cubicBezTo>
                  <a:pt x="4111" y="4436"/>
                  <a:pt x="4145" y="4492"/>
                  <a:pt x="4192" y="4539"/>
                </a:cubicBezTo>
                <a:cubicBezTo>
                  <a:pt x="4217" y="4564"/>
                  <a:pt x="4225" y="4572"/>
                  <a:pt x="4242" y="4589"/>
                </a:cubicBezTo>
              </a:path>
              <a:path w="2283" h="1142">
                <a:moveTo>
                  <a:pt x="4242" y="4490"/>
                </a:moveTo>
                <a:cubicBezTo>
                  <a:pt x="4270" y="4429"/>
                  <a:pt x="4302" y="4373"/>
                  <a:pt x="4316" y="4316"/>
                </a:cubicBezTo>
                <a:cubicBezTo>
                  <a:pt x="4316" y="4388"/>
                  <a:pt x="4305" y="4456"/>
                  <a:pt x="4341" y="4514"/>
                </a:cubicBezTo>
                <a:cubicBezTo>
                  <a:pt x="4395" y="4447"/>
                  <a:pt x="4407" y="4353"/>
                  <a:pt x="4415" y="4266"/>
                </a:cubicBezTo>
                <a:cubicBezTo>
                  <a:pt x="4425" y="4153"/>
                  <a:pt x="4412" y="4048"/>
                  <a:pt x="4390" y="3944"/>
                </a:cubicBezTo>
                <a:cubicBezTo>
                  <a:pt x="4390" y="3936"/>
                  <a:pt x="4390" y="3927"/>
                  <a:pt x="4390" y="3919"/>
                </a:cubicBezTo>
                <a:cubicBezTo>
                  <a:pt x="4405" y="4011"/>
                  <a:pt x="4436" y="4128"/>
                  <a:pt x="4465" y="4217"/>
                </a:cubicBezTo>
                <a:cubicBezTo>
                  <a:pt x="4505" y="4342"/>
                  <a:pt x="4553" y="4397"/>
                  <a:pt x="463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78000" y="1312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6375" y="4266"/>
                </a:moveTo>
                <a:cubicBezTo>
                  <a:pt x="6375" y="4217"/>
                  <a:pt x="6358" y="4151"/>
                  <a:pt x="6400" y="4118"/>
                </a:cubicBezTo>
                <a:cubicBezTo>
                  <a:pt x="6473" y="4061"/>
                  <a:pt x="6547" y="4105"/>
                  <a:pt x="6598" y="4167"/>
                </a:cubicBezTo>
                <a:cubicBezTo>
                  <a:pt x="6676" y="4262"/>
                  <a:pt x="6689" y="4352"/>
                  <a:pt x="6648" y="4465"/>
                </a:cubicBezTo>
                <a:cubicBezTo>
                  <a:pt x="6621" y="4539"/>
                  <a:pt x="6571" y="4583"/>
                  <a:pt x="6499" y="4589"/>
                </a:cubicBezTo>
                <a:cubicBezTo>
                  <a:pt x="6471" y="4589"/>
                  <a:pt x="6460" y="4587"/>
                  <a:pt x="6449" y="4564"/>
                </a:cubicBezTo>
              </a:path>
              <a:path w="820" h="1465">
                <a:moveTo>
                  <a:pt x="6747" y="4118"/>
                </a:moveTo>
                <a:cubicBezTo>
                  <a:pt x="6798" y="4088"/>
                  <a:pt x="6832" y="4074"/>
                  <a:pt x="6846" y="4018"/>
                </a:cubicBezTo>
                <a:cubicBezTo>
                  <a:pt x="6784" y="4018"/>
                  <a:pt x="6758" y="4064"/>
                  <a:pt x="6722" y="4118"/>
                </a:cubicBezTo>
                <a:cubicBezTo>
                  <a:pt x="6680" y="4181"/>
                  <a:pt x="6678" y="4303"/>
                  <a:pt x="6722" y="4366"/>
                </a:cubicBezTo>
                <a:cubicBezTo>
                  <a:pt x="6770" y="4436"/>
                  <a:pt x="6806" y="4454"/>
                  <a:pt x="6871" y="4415"/>
                </a:cubicBezTo>
              </a:path>
              <a:path w="820" h="1465">
                <a:moveTo>
                  <a:pt x="6226" y="3721"/>
                </a:moveTo>
                <a:cubicBezTo>
                  <a:pt x="6226" y="3679"/>
                  <a:pt x="6226" y="3671"/>
                  <a:pt x="6226" y="3646"/>
                </a:cubicBezTo>
                <a:cubicBezTo>
                  <a:pt x="6199" y="3727"/>
                  <a:pt x="6155" y="3812"/>
                  <a:pt x="6127" y="3894"/>
                </a:cubicBezTo>
                <a:cubicBezTo>
                  <a:pt x="6068" y="4066"/>
                  <a:pt x="6054" y="4239"/>
                  <a:pt x="6077" y="4415"/>
                </a:cubicBezTo>
                <a:cubicBezTo>
                  <a:pt x="6101" y="4596"/>
                  <a:pt x="6172" y="4763"/>
                  <a:pt x="6226" y="4936"/>
                </a:cubicBezTo>
                <a:cubicBezTo>
                  <a:pt x="6246" y="5001"/>
                  <a:pt x="6268" y="5046"/>
                  <a:pt x="627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52840" y="149076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7367" y="4192"/>
                </a:moveTo>
                <a:cubicBezTo>
                  <a:pt x="7415" y="4192"/>
                  <a:pt x="7473" y="4182"/>
                  <a:pt x="7516" y="4167"/>
                </a:cubicBezTo>
                <a:cubicBezTo>
                  <a:pt x="7575" y="4147"/>
                  <a:pt x="7601" y="4142"/>
                  <a:pt x="766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5960" y="1187280"/>
            <a:ext cx="482400" cy="554040"/>
          </a:xfrm>
          <a:custGeom>
            <a:avLst/>
            <a:gdLst/>
            <a:ahLst/>
            <a:rect l="l" t="t" r="r" b="b"/>
            <a:pathLst>
              <a:path w="1341" h="1539">
                <a:moveTo>
                  <a:pt x="8310" y="3646"/>
                </a:moveTo>
                <a:cubicBezTo>
                  <a:pt x="8330" y="3606"/>
                  <a:pt x="8328" y="3590"/>
                  <a:pt x="8359" y="3597"/>
                </a:cubicBezTo>
                <a:cubicBezTo>
                  <a:pt x="8337" y="3633"/>
                  <a:pt x="8296" y="3700"/>
                  <a:pt x="8285" y="3746"/>
                </a:cubicBezTo>
                <a:cubicBezTo>
                  <a:pt x="8273" y="3796"/>
                  <a:pt x="8285" y="3867"/>
                  <a:pt x="8285" y="3919"/>
                </a:cubicBezTo>
                <a:cubicBezTo>
                  <a:pt x="8364" y="3919"/>
                  <a:pt x="8379" y="3885"/>
                  <a:pt x="8458" y="3870"/>
                </a:cubicBezTo>
                <a:cubicBezTo>
                  <a:pt x="8517" y="3858"/>
                  <a:pt x="8570" y="3845"/>
                  <a:pt x="8632" y="3845"/>
                </a:cubicBezTo>
                <a:cubicBezTo>
                  <a:pt x="8648" y="3845"/>
                  <a:pt x="8770" y="3845"/>
                  <a:pt x="8706" y="3845"/>
                </a:cubicBezTo>
              </a:path>
              <a:path w="1341" h="1539">
                <a:moveTo>
                  <a:pt x="8483" y="3721"/>
                </a:moveTo>
                <a:cubicBezTo>
                  <a:pt x="8475" y="3704"/>
                  <a:pt x="8466" y="3688"/>
                  <a:pt x="8458" y="3671"/>
                </a:cubicBezTo>
                <a:cubicBezTo>
                  <a:pt x="8492" y="3693"/>
                  <a:pt x="8483" y="3719"/>
                  <a:pt x="8483" y="3770"/>
                </a:cubicBezTo>
                <a:cubicBezTo>
                  <a:pt x="8483" y="3836"/>
                  <a:pt x="8483" y="3903"/>
                  <a:pt x="8483" y="3969"/>
                </a:cubicBezTo>
              </a:path>
              <a:path w="1341" h="1539">
                <a:moveTo>
                  <a:pt x="8855" y="4118"/>
                </a:moveTo>
                <a:cubicBezTo>
                  <a:pt x="8837" y="4188"/>
                  <a:pt x="8817" y="4153"/>
                  <a:pt x="8756" y="4167"/>
                </a:cubicBezTo>
                <a:cubicBezTo>
                  <a:pt x="8656" y="4190"/>
                  <a:pt x="8562" y="4213"/>
                  <a:pt x="8458" y="4217"/>
                </a:cubicBezTo>
                <a:cubicBezTo>
                  <a:pt x="8370" y="4220"/>
                  <a:pt x="8307" y="4218"/>
                  <a:pt x="8235" y="4242"/>
                </a:cubicBezTo>
                <a:cubicBezTo>
                  <a:pt x="8227" y="4242"/>
                  <a:pt x="8218" y="4242"/>
                  <a:pt x="8210" y="4242"/>
                </a:cubicBezTo>
              </a:path>
              <a:path w="1341" h="1539">
                <a:moveTo>
                  <a:pt x="8285" y="4614"/>
                </a:moveTo>
                <a:cubicBezTo>
                  <a:pt x="8285" y="4638"/>
                  <a:pt x="8295" y="4594"/>
                  <a:pt x="8359" y="4589"/>
                </a:cubicBezTo>
                <a:cubicBezTo>
                  <a:pt x="8420" y="4584"/>
                  <a:pt x="8465" y="4635"/>
                  <a:pt x="8483" y="4688"/>
                </a:cubicBezTo>
                <a:cubicBezTo>
                  <a:pt x="8512" y="4777"/>
                  <a:pt x="8455" y="4785"/>
                  <a:pt x="8409" y="4812"/>
                </a:cubicBezTo>
                <a:cubicBezTo>
                  <a:pt x="8365" y="4838"/>
                  <a:pt x="8338" y="4837"/>
                  <a:pt x="8285" y="4837"/>
                </a:cubicBezTo>
              </a:path>
              <a:path w="1341" h="1539">
                <a:moveTo>
                  <a:pt x="8533" y="4564"/>
                </a:moveTo>
                <a:cubicBezTo>
                  <a:pt x="8555" y="4521"/>
                  <a:pt x="8558" y="4509"/>
                  <a:pt x="8582" y="4490"/>
                </a:cubicBezTo>
                <a:cubicBezTo>
                  <a:pt x="8528" y="4503"/>
                  <a:pt x="8501" y="4558"/>
                  <a:pt x="8483" y="4614"/>
                </a:cubicBezTo>
                <a:cubicBezTo>
                  <a:pt x="8469" y="4659"/>
                  <a:pt x="8544" y="4750"/>
                  <a:pt x="8582" y="4762"/>
                </a:cubicBezTo>
                <a:cubicBezTo>
                  <a:pt x="8634" y="4779"/>
                  <a:pt x="8686" y="4755"/>
                  <a:pt x="8731" y="4738"/>
                </a:cubicBezTo>
              </a:path>
              <a:path w="1341" h="1539">
                <a:moveTo>
                  <a:pt x="8855" y="3547"/>
                </a:moveTo>
                <a:cubicBezTo>
                  <a:pt x="8902" y="3567"/>
                  <a:pt x="8972" y="3576"/>
                  <a:pt x="9004" y="3621"/>
                </a:cubicBezTo>
                <a:cubicBezTo>
                  <a:pt x="9078" y="3724"/>
                  <a:pt x="9094" y="3873"/>
                  <a:pt x="9103" y="3994"/>
                </a:cubicBezTo>
                <a:cubicBezTo>
                  <a:pt x="9116" y="4166"/>
                  <a:pt x="9101" y="4310"/>
                  <a:pt x="9029" y="4465"/>
                </a:cubicBezTo>
                <a:cubicBezTo>
                  <a:pt x="8974" y="4585"/>
                  <a:pt x="8918" y="4690"/>
                  <a:pt x="8830" y="4787"/>
                </a:cubicBezTo>
              </a:path>
              <a:path w="1341" h="1539">
                <a:moveTo>
                  <a:pt x="9277" y="3423"/>
                </a:moveTo>
                <a:cubicBezTo>
                  <a:pt x="9277" y="3371"/>
                  <a:pt x="9272" y="3371"/>
                  <a:pt x="9302" y="3349"/>
                </a:cubicBezTo>
                <a:cubicBezTo>
                  <a:pt x="9346" y="3316"/>
                  <a:pt x="9343" y="3299"/>
                  <a:pt x="9401" y="3299"/>
                </a:cubicBezTo>
                <a:cubicBezTo>
                  <a:pt x="9464" y="3299"/>
                  <a:pt x="9451" y="3351"/>
                  <a:pt x="9451" y="3398"/>
                </a:cubicBezTo>
                <a:cubicBezTo>
                  <a:pt x="9451" y="3461"/>
                  <a:pt x="9442" y="3495"/>
                  <a:pt x="9426" y="3547"/>
                </a:cubicBezTo>
                <a:cubicBezTo>
                  <a:pt x="9414" y="3588"/>
                  <a:pt x="9414" y="3557"/>
                  <a:pt x="9401" y="3597"/>
                </a:cubicBezTo>
                <a:cubicBezTo>
                  <a:pt x="9441" y="3626"/>
                  <a:pt x="9493" y="3598"/>
                  <a:pt x="9525" y="3621"/>
                </a:cubicBezTo>
                <a:cubicBezTo>
                  <a:pt x="9535" y="3628"/>
                  <a:pt x="9545" y="3656"/>
                  <a:pt x="9550" y="3671"/>
                </a:cubicBezTo>
                <a:cubicBezTo>
                  <a:pt x="9495" y="3685"/>
                  <a:pt x="9463" y="3731"/>
                  <a:pt x="9401" y="3746"/>
                </a:cubicBezTo>
                <a:cubicBezTo>
                  <a:pt x="9376" y="3746"/>
                  <a:pt x="9368" y="3746"/>
                  <a:pt x="935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00120" y="2160720"/>
            <a:ext cx="2170080" cy="635040"/>
            <a:chOff x="1500120" y="2160720"/>
            <a:chExt cx="2170080" cy="635040"/>
          </a:xfrm>
        </p:grpSpPr>
        <p:sp>
          <p:nvSpPr>
            <p:cNvPr id="79" name=""/>
            <p:cNvSpPr/>
            <p:nvPr/>
          </p:nvSpPr>
          <p:spPr>
            <a:xfrm>
              <a:off x="1500120" y="2581200"/>
              <a:ext cx="108000" cy="88920"/>
            </a:xfrm>
            <a:custGeom>
              <a:avLst/>
              <a:gdLst/>
              <a:ahLst/>
              <a:rect l="l" t="t" r="r" b="b"/>
              <a:pathLst>
                <a:path w="299" h="249">
                  <a:moveTo>
                    <a:pt x="4415" y="7218"/>
                  </a:moveTo>
                  <a:cubicBezTo>
                    <a:pt x="4437" y="7196"/>
                    <a:pt x="4446" y="7191"/>
                    <a:pt x="4440" y="7169"/>
                  </a:cubicBezTo>
                  <a:cubicBezTo>
                    <a:pt x="4358" y="7169"/>
                    <a:pt x="4294" y="7174"/>
                    <a:pt x="4217" y="7193"/>
                  </a:cubicBezTo>
                  <a:cubicBezTo>
                    <a:pt x="4192" y="7193"/>
                    <a:pt x="4184" y="7193"/>
                    <a:pt x="4167" y="7193"/>
                  </a:cubicBezTo>
                </a:path>
                <a:path w="299" h="249">
                  <a:moveTo>
                    <a:pt x="4440" y="7367"/>
                  </a:moveTo>
                  <a:cubicBezTo>
                    <a:pt x="4448" y="7367"/>
                    <a:pt x="4457" y="7367"/>
                    <a:pt x="4465" y="7367"/>
                  </a:cubicBezTo>
                  <a:cubicBezTo>
                    <a:pt x="4414" y="7367"/>
                    <a:pt x="4379" y="7358"/>
                    <a:pt x="4341" y="7392"/>
                  </a:cubicBezTo>
                  <a:cubicBezTo>
                    <a:pt x="4333" y="7400"/>
                    <a:pt x="4324" y="7409"/>
                    <a:pt x="4316" y="741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63800" y="2259000"/>
              <a:ext cx="73080" cy="536760"/>
            </a:xfrm>
            <a:custGeom>
              <a:avLst/>
              <a:gdLst/>
              <a:ahLst/>
              <a:rect l="l" t="t" r="r" b="b"/>
              <a:pathLst>
                <a:path w="199" h="1489">
                  <a:moveTo>
                    <a:pt x="5531" y="6276"/>
                  </a:moveTo>
                  <a:cubicBezTo>
                    <a:pt x="5542" y="6324"/>
                    <a:pt x="5532" y="6386"/>
                    <a:pt x="5507" y="6474"/>
                  </a:cubicBezTo>
                  <a:cubicBezTo>
                    <a:pt x="5466" y="6621"/>
                    <a:pt x="5457" y="6744"/>
                    <a:pt x="5457" y="6896"/>
                  </a:cubicBezTo>
                  <a:cubicBezTo>
                    <a:pt x="5457" y="7082"/>
                    <a:pt x="5495" y="7259"/>
                    <a:pt x="5531" y="7441"/>
                  </a:cubicBezTo>
                  <a:cubicBezTo>
                    <a:pt x="5554" y="7561"/>
                    <a:pt x="5607" y="7653"/>
                    <a:pt x="5655" y="776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52800" y="2438280"/>
              <a:ext cx="177480" cy="177840"/>
            </a:xfrm>
            <a:custGeom>
              <a:avLst/>
              <a:gdLst/>
              <a:ahLst/>
              <a:rect l="l" t="t" r="r" b="b"/>
              <a:pathLst>
                <a:path w="497" h="497">
                  <a:moveTo>
                    <a:pt x="6003" y="7020"/>
                  </a:moveTo>
                  <a:cubicBezTo>
                    <a:pt x="5981" y="7013"/>
                    <a:pt x="5958" y="6981"/>
                    <a:pt x="5978" y="6945"/>
                  </a:cubicBezTo>
                  <a:cubicBezTo>
                    <a:pt x="6002" y="6903"/>
                    <a:pt x="6034" y="6896"/>
                    <a:pt x="6077" y="6896"/>
                  </a:cubicBezTo>
                  <a:cubicBezTo>
                    <a:pt x="6154" y="6896"/>
                    <a:pt x="6190" y="6995"/>
                    <a:pt x="6201" y="7069"/>
                  </a:cubicBezTo>
                  <a:cubicBezTo>
                    <a:pt x="6210" y="7126"/>
                    <a:pt x="6213" y="7234"/>
                    <a:pt x="6152" y="7268"/>
                  </a:cubicBezTo>
                  <a:cubicBezTo>
                    <a:pt x="6139" y="7275"/>
                    <a:pt x="6093" y="7268"/>
                    <a:pt x="6077" y="7268"/>
                  </a:cubicBezTo>
                </a:path>
                <a:path w="497" h="497">
                  <a:moveTo>
                    <a:pt x="6276" y="6871"/>
                  </a:moveTo>
                  <a:cubicBezTo>
                    <a:pt x="6321" y="6805"/>
                    <a:pt x="6362" y="6723"/>
                    <a:pt x="6300" y="6821"/>
                  </a:cubicBezTo>
                  <a:cubicBezTo>
                    <a:pt x="6254" y="6894"/>
                    <a:pt x="6271" y="6993"/>
                    <a:pt x="6300" y="7069"/>
                  </a:cubicBezTo>
                  <a:cubicBezTo>
                    <a:pt x="6330" y="7149"/>
                    <a:pt x="6375" y="7165"/>
                    <a:pt x="6449" y="7119"/>
                  </a:cubicBezTo>
                  <a:cubicBezTo>
                    <a:pt x="6457" y="7111"/>
                    <a:pt x="6466" y="7102"/>
                    <a:pt x="6474" y="709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7840" y="2490840"/>
              <a:ext cx="81000" cy="19080"/>
            </a:xfrm>
            <a:custGeom>
              <a:avLst/>
              <a:gdLst/>
              <a:ahLst/>
              <a:rect l="l" t="t" r="r" b="b"/>
              <a:pathLst>
                <a:path w="224" h="50">
                  <a:moveTo>
                    <a:pt x="6995" y="6970"/>
                  </a:moveTo>
                  <a:cubicBezTo>
                    <a:pt x="6995" y="6962"/>
                    <a:pt x="6995" y="6953"/>
                    <a:pt x="6995" y="6945"/>
                  </a:cubicBezTo>
                  <a:cubicBezTo>
                    <a:pt x="7047" y="6945"/>
                    <a:pt x="7069" y="6929"/>
                    <a:pt x="7119" y="6921"/>
                  </a:cubicBezTo>
                  <a:cubicBezTo>
                    <a:pt x="7169" y="6921"/>
                    <a:pt x="7185" y="6921"/>
                    <a:pt x="7218" y="69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57680" y="2259000"/>
              <a:ext cx="634680" cy="366840"/>
            </a:xfrm>
            <a:custGeom>
              <a:avLst/>
              <a:gdLst/>
              <a:ahLst/>
              <a:rect l="l" t="t" r="r" b="b"/>
              <a:pathLst>
                <a:path w="1762" h="1018">
                  <a:moveTo>
                    <a:pt x="7938" y="6623"/>
                  </a:moveTo>
                  <a:cubicBezTo>
                    <a:pt x="7952" y="6598"/>
                    <a:pt x="7987" y="6498"/>
                    <a:pt x="7987" y="6548"/>
                  </a:cubicBezTo>
                  <a:cubicBezTo>
                    <a:pt x="7987" y="6597"/>
                    <a:pt x="7972" y="6696"/>
                    <a:pt x="7962" y="6747"/>
                  </a:cubicBezTo>
                  <a:cubicBezTo>
                    <a:pt x="7948" y="6820"/>
                    <a:pt x="7911" y="6882"/>
                    <a:pt x="7962" y="6945"/>
                  </a:cubicBezTo>
                  <a:cubicBezTo>
                    <a:pt x="7994" y="6986"/>
                    <a:pt x="8030" y="7011"/>
                    <a:pt x="8086" y="6995"/>
                  </a:cubicBezTo>
                  <a:cubicBezTo>
                    <a:pt x="8133" y="6981"/>
                    <a:pt x="8191" y="6962"/>
                    <a:pt x="8235" y="6945"/>
                  </a:cubicBezTo>
                  <a:cubicBezTo>
                    <a:pt x="8287" y="6925"/>
                    <a:pt x="8305" y="6921"/>
                    <a:pt x="8359" y="6921"/>
                  </a:cubicBezTo>
                  <a:cubicBezTo>
                    <a:pt x="8398" y="6921"/>
                    <a:pt x="8384" y="6937"/>
                    <a:pt x="8384" y="6970"/>
                  </a:cubicBezTo>
                  <a:cubicBezTo>
                    <a:pt x="8359" y="6970"/>
                    <a:pt x="8351" y="6970"/>
                    <a:pt x="8359" y="6945"/>
                  </a:cubicBezTo>
                </a:path>
                <a:path w="1762" h="1018">
                  <a:moveTo>
                    <a:pt x="8161" y="6821"/>
                  </a:moveTo>
                  <a:cubicBezTo>
                    <a:pt x="8161" y="6753"/>
                    <a:pt x="8161" y="6906"/>
                    <a:pt x="8161" y="6921"/>
                  </a:cubicBezTo>
                  <a:cubicBezTo>
                    <a:pt x="8161" y="6990"/>
                    <a:pt x="8186" y="7049"/>
                    <a:pt x="8186" y="7119"/>
                  </a:cubicBezTo>
                </a:path>
                <a:path w="1762" h="1018">
                  <a:moveTo>
                    <a:pt x="8582" y="6871"/>
                  </a:moveTo>
                  <a:cubicBezTo>
                    <a:pt x="8574" y="6879"/>
                    <a:pt x="8566" y="6888"/>
                    <a:pt x="8558" y="6896"/>
                  </a:cubicBezTo>
                  <a:cubicBezTo>
                    <a:pt x="8568" y="6854"/>
                    <a:pt x="8585" y="6826"/>
                    <a:pt x="8632" y="6821"/>
                  </a:cubicBezTo>
                  <a:cubicBezTo>
                    <a:pt x="8683" y="6815"/>
                    <a:pt x="8722" y="6904"/>
                    <a:pt x="8731" y="6945"/>
                  </a:cubicBezTo>
                  <a:cubicBezTo>
                    <a:pt x="8743" y="7001"/>
                    <a:pt x="8738" y="7078"/>
                    <a:pt x="8706" y="7119"/>
                  </a:cubicBezTo>
                  <a:cubicBezTo>
                    <a:pt x="8664" y="7173"/>
                    <a:pt x="8627" y="7130"/>
                    <a:pt x="8582" y="7119"/>
                  </a:cubicBezTo>
                </a:path>
                <a:path w="1762" h="1018">
                  <a:moveTo>
                    <a:pt x="8781" y="6796"/>
                  </a:moveTo>
                  <a:cubicBezTo>
                    <a:pt x="8854" y="6774"/>
                    <a:pt x="8788" y="6846"/>
                    <a:pt x="8781" y="6896"/>
                  </a:cubicBezTo>
                  <a:cubicBezTo>
                    <a:pt x="8774" y="6944"/>
                    <a:pt x="8755" y="7149"/>
                    <a:pt x="8806" y="7169"/>
                  </a:cubicBezTo>
                  <a:cubicBezTo>
                    <a:pt x="8862" y="7191"/>
                    <a:pt x="8928" y="7108"/>
                    <a:pt x="8954" y="7069"/>
                  </a:cubicBezTo>
                  <a:cubicBezTo>
                    <a:pt x="8976" y="7026"/>
                    <a:pt x="8980" y="7014"/>
                    <a:pt x="9004" y="6995"/>
                  </a:cubicBezTo>
                </a:path>
                <a:path w="1762" h="1018">
                  <a:moveTo>
                    <a:pt x="9103" y="6747"/>
                  </a:moveTo>
                  <a:cubicBezTo>
                    <a:pt x="9095" y="6739"/>
                    <a:pt x="9087" y="6730"/>
                    <a:pt x="9079" y="6722"/>
                  </a:cubicBezTo>
                  <a:cubicBezTo>
                    <a:pt x="9137" y="6722"/>
                    <a:pt x="9194" y="6722"/>
                    <a:pt x="9252" y="6722"/>
                  </a:cubicBezTo>
                </a:path>
                <a:path w="1762" h="1018">
                  <a:moveTo>
                    <a:pt x="9376" y="6598"/>
                  </a:moveTo>
                  <a:cubicBezTo>
                    <a:pt x="9376" y="6570"/>
                    <a:pt x="9378" y="6559"/>
                    <a:pt x="9401" y="6548"/>
                  </a:cubicBezTo>
                  <a:cubicBezTo>
                    <a:pt x="9401" y="6632"/>
                    <a:pt x="9385" y="6729"/>
                    <a:pt x="9426" y="6796"/>
                  </a:cubicBezTo>
                </a:path>
                <a:path w="1762" h="1018">
                  <a:moveTo>
                    <a:pt x="9401" y="6375"/>
                  </a:moveTo>
                  <a:cubicBezTo>
                    <a:pt x="9422" y="6327"/>
                    <a:pt x="9447" y="6251"/>
                    <a:pt x="9525" y="6276"/>
                  </a:cubicBezTo>
                  <a:cubicBezTo>
                    <a:pt x="9606" y="6302"/>
                    <a:pt x="9649" y="6426"/>
                    <a:pt x="9674" y="6499"/>
                  </a:cubicBezTo>
                  <a:cubicBezTo>
                    <a:pt x="9720" y="6632"/>
                    <a:pt x="9717" y="6831"/>
                    <a:pt x="9699" y="6970"/>
                  </a:cubicBezTo>
                  <a:cubicBezTo>
                    <a:pt x="9684" y="7091"/>
                    <a:pt x="9646" y="7200"/>
                    <a:pt x="9575" y="729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2160720"/>
              <a:ext cx="88920" cy="196560"/>
            </a:xfrm>
            <a:custGeom>
              <a:avLst/>
              <a:gdLst/>
              <a:ahLst/>
              <a:rect l="l" t="t" r="r" b="b"/>
              <a:pathLst>
                <a:path w="249" h="546">
                  <a:moveTo>
                    <a:pt x="9971" y="6127"/>
                  </a:moveTo>
                  <a:cubicBezTo>
                    <a:pt x="9939" y="6082"/>
                    <a:pt x="9938" y="6076"/>
                    <a:pt x="9971" y="6052"/>
                  </a:cubicBezTo>
                  <a:cubicBezTo>
                    <a:pt x="10000" y="6031"/>
                    <a:pt x="10053" y="5979"/>
                    <a:pt x="10096" y="6003"/>
                  </a:cubicBezTo>
                  <a:cubicBezTo>
                    <a:pt x="10120" y="6017"/>
                    <a:pt x="10178" y="6099"/>
                    <a:pt x="10170" y="6127"/>
                  </a:cubicBezTo>
                  <a:cubicBezTo>
                    <a:pt x="10160" y="6162"/>
                    <a:pt x="10114" y="6224"/>
                    <a:pt x="10096" y="6251"/>
                  </a:cubicBezTo>
                  <a:cubicBezTo>
                    <a:pt x="10066" y="6296"/>
                    <a:pt x="10052" y="6330"/>
                    <a:pt x="10096" y="6350"/>
                  </a:cubicBezTo>
                  <a:cubicBezTo>
                    <a:pt x="10133" y="6367"/>
                    <a:pt x="10191" y="6393"/>
                    <a:pt x="10195" y="6424"/>
                  </a:cubicBezTo>
                  <a:cubicBezTo>
                    <a:pt x="10205" y="6501"/>
                    <a:pt x="10175" y="6502"/>
                    <a:pt x="10120" y="6524"/>
                  </a:cubicBezTo>
                  <a:cubicBezTo>
                    <a:pt x="10104" y="6532"/>
                    <a:pt x="10087" y="6540"/>
                    <a:pt x="10071" y="654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46120" y="2982960"/>
            <a:ext cx="6527880" cy="438120"/>
            <a:chOff x="1446120" y="2982960"/>
            <a:chExt cx="6527880" cy="438120"/>
          </a:xfrm>
        </p:grpSpPr>
        <p:sp>
          <p:nvSpPr>
            <p:cNvPr id="86" name=""/>
            <p:cNvSpPr/>
            <p:nvPr/>
          </p:nvSpPr>
          <p:spPr>
            <a:xfrm>
              <a:off x="1446120" y="3241800"/>
              <a:ext cx="108000" cy="71280"/>
            </a:xfrm>
            <a:custGeom>
              <a:avLst/>
              <a:gdLst/>
              <a:ahLst/>
              <a:rect l="l" t="t" r="r" b="b"/>
              <a:pathLst>
                <a:path w="299" h="200">
                  <a:moveTo>
                    <a:pt x="4242" y="9029"/>
                  </a:moveTo>
                  <a:cubicBezTo>
                    <a:pt x="4266" y="9029"/>
                    <a:pt x="4275" y="9029"/>
                    <a:pt x="4291" y="9029"/>
                  </a:cubicBezTo>
                  <a:cubicBezTo>
                    <a:pt x="4278" y="8991"/>
                    <a:pt x="4262" y="9004"/>
                    <a:pt x="4217" y="9004"/>
                  </a:cubicBezTo>
                  <a:cubicBezTo>
                    <a:pt x="4173" y="9004"/>
                    <a:pt x="4155" y="9042"/>
                    <a:pt x="4118" y="9054"/>
                  </a:cubicBezTo>
                  <a:cubicBezTo>
                    <a:pt x="4092" y="9063"/>
                    <a:pt x="4046" y="9054"/>
                    <a:pt x="4018" y="9054"/>
                  </a:cubicBezTo>
                </a:path>
                <a:path w="299" h="200">
                  <a:moveTo>
                    <a:pt x="4266" y="9153"/>
                  </a:moveTo>
                  <a:cubicBezTo>
                    <a:pt x="4291" y="9153"/>
                    <a:pt x="4299" y="9153"/>
                    <a:pt x="4316" y="9153"/>
                  </a:cubicBezTo>
                  <a:cubicBezTo>
                    <a:pt x="4248" y="9153"/>
                    <a:pt x="4205" y="9162"/>
                    <a:pt x="4142" y="9178"/>
                  </a:cubicBezTo>
                  <a:cubicBezTo>
                    <a:pt x="4114" y="9178"/>
                    <a:pt x="4104" y="9181"/>
                    <a:pt x="4093" y="920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5080" y="3054240"/>
              <a:ext cx="339840" cy="276480"/>
            </a:xfrm>
            <a:custGeom>
              <a:avLst/>
              <a:gdLst/>
              <a:ahLst/>
              <a:rect l="l" t="t" r="r" b="b"/>
              <a:pathLst>
                <a:path w="944" h="770">
                  <a:moveTo>
                    <a:pt x="5705" y="9029"/>
                  </a:moveTo>
                  <a:cubicBezTo>
                    <a:pt x="5666" y="9055"/>
                    <a:pt x="5668" y="9031"/>
                    <a:pt x="5655" y="8979"/>
                  </a:cubicBezTo>
                  <a:cubicBezTo>
                    <a:pt x="5719" y="8943"/>
                    <a:pt x="5731" y="8930"/>
                    <a:pt x="5804" y="8930"/>
                  </a:cubicBezTo>
                  <a:cubicBezTo>
                    <a:pt x="5886" y="8930"/>
                    <a:pt x="5897" y="8992"/>
                    <a:pt x="5928" y="9054"/>
                  </a:cubicBezTo>
                  <a:cubicBezTo>
                    <a:pt x="5971" y="9140"/>
                    <a:pt x="5946" y="9148"/>
                    <a:pt x="5879" y="9203"/>
                  </a:cubicBezTo>
                  <a:cubicBezTo>
                    <a:pt x="5841" y="9234"/>
                    <a:pt x="5779" y="9242"/>
                    <a:pt x="5730" y="9252"/>
                  </a:cubicBezTo>
                </a:path>
                <a:path w="944" h="770">
                  <a:moveTo>
                    <a:pt x="5978" y="8855"/>
                  </a:moveTo>
                  <a:cubicBezTo>
                    <a:pt x="5995" y="8847"/>
                    <a:pt x="6011" y="8838"/>
                    <a:pt x="6028" y="8830"/>
                  </a:cubicBezTo>
                  <a:cubicBezTo>
                    <a:pt x="5974" y="8898"/>
                    <a:pt x="5957" y="8942"/>
                    <a:pt x="5953" y="9029"/>
                  </a:cubicBezTo>
                  <a:cubicBezTo>
                    <a:pt x="5951" y="9074"/>
                    <a:pt x="5974" y="9162"/>
                    <a:pt x="6028" y="9178"/>
                  </a:cubicBezTo>
                  <a:cubicBezTo>
                    <a:pt x="6090" y="9196"/>
                    <a:pt x="6139" y="9116"/>
                    <a:pt x="6176" y="9079"/>
                  </a:cubicBezTo>
                </a:path>
                <a:path w="944" h="770">
                  <a:moveTo>
                    <a:pt x="6400" y="8558"/>
                  </a:moveTo>
                  <a:cubicBezTo>
                    <a:pt x="6392" y="8550"/>
                    <a:pt x="6383" y="8541"/>
                    <a:pt x="6375" y="8533"/>
                  </a:cubicBezTo>
                  <a:cubicBezTo>
                    <a:pt x="6406" y="8510"/>
                    <a:pt x="6435" y="8487"/>
                    <a:pt x="6474" y="8483"/>
                  </a:cubicBezTo>
                  <a:cubicBezTo>
                    <a:pt x="6499" y="8483"/>
                    <a:pt x="6507" y="8483"/>
                    <a:pt x="6524" y="8483"/>
                  </a:cubicBezTo>
                  <a:cubicBezTo>
                    <a:pt x="6524" y="8532"/>
                    <a:pt x="6507" y="8569"/>
                    <a:pt x="6499" y="8607"/>
                  </a:cubicBezTo>
                  <a:cubicBezTo>
                    <a:pt x="6491" y="8647"/>
                    <a:pt x="6487" y="8733"/>
                    <a:pt x="6524" y="8756"/>
                  </a:cubicBezTo>
                  <a:cubicBezTo>
                    <a:pt x="6536" y="8763"/>
                    <a:pt x="6584" y="8756"/>
                    <a:pt x="6598" y="8756"/>
                  </a:cubicBezTo>
                  <a:cubicBezTo>
                    <a:pt x="6598" y="8811"/>
                    <a:pt x="6585" y="8838"/>
                    <a:pt x="6548" y="8880"/>
                  </a:cubicBezTo>
                  <a:cubicBezTo>
                    <a:pt x="6540" y="8888"/>
                    <a:pt x="6532" y="8897"/>
                    <a:pt x="6524" y="890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78080" y="3054240"/>
              <a:ext cx="260280" cy="250920"/>
            </a:xfrm>
            <a:custGeom>
              <a:avLst/>
              <a:gdLst/>
              <a:ahLst/>
              <a:rect l="l" t="t" r="r" b="b"/>
              <a:pathLst>
                <a:path w="721" h="696">
                  <a:moveTo>
                    <a:pt x="8905" y="8905"/>
                  </a:moveTo>
                  <a:cubicBezTo>
                    <a:pt x="8865" y="8918"/>
                    <a:pt x="8895" y="8917"/>
                    <a:pt x="8855" y="8930"/>
                  </a:cubicBezTo>
                  <a:cubicBezTo>
                    <a:pt x="8836" y="8891"/>
                    <a:pt x="8853" y="8843"/>
                    <a:pt x="8905" y="8806"/>
                  </a:cubicBezTo>
                  <a:cubicBezTo>
                    <a:pt x="8964" y="8764"/>
                    <a:pt x="9043" y="8798"/>
                    <a:pt x="9079" y="8855"/>
                  </a:cubicBezTo>
                  <a:cubicBezTo>
                    <a:pt x="9115" y="8911"/>
                    <a:pt x="9149" y="9036"/>
                    <a:pt x="9128" y="9103"/>
                  </a:cubicBezTo>
                  <a:cubicBezTo>
                    <a:pt x="9111" y="9158"/>
                    <a:pt x="8998" y="9175"/>
                    <a:pt x="8954" y="9178"/>
                  </a:cubicBezTo>
                  <a:cubicBezTo>
                    <a:pt x="8906" y="9182"/>
                    <a:pt x="8899" y="9182"/>
                    <a:pt x="8880" y="9153"/>
                  </a:cubicBezTo>
                </a:path>
                <a:path w="721" h="696">
                  <a:moveTo>
                    <a:pt x="9128" y="8806"/>
                  </a:moveTo>
                  <a:cubicBezTo>
                    <a:pt x="9213" y="8757"/>
                    <a:pt x="9197" y="8738"/>
                    <a:pt x="9153" y="8806"/>
                  </a:cubicBezTo>
                  <a:cubicBezTo>
                    <a:pt x="9122" y="8853"/>
                    <a:pt x="9113" y="8949"/>
                    <a:pt x="9128" y="9004"/>
                  </a:cubicBezTo>
                  <a:cubicBezTo>
                    <a:pt x="9146" y="9067"/>
                    <a:pt x="9178" y="9127"/>
                    <a:pt x="9252" y="9103"/>
                  </a:cubicBezTo>
                  <a:cubicBezTo>
                    <a:pt x="9302" y="9079"/>
                    <a:pt x="9319" y="9071"/>
                    <a:pt x="9327" y="9029"/>
                  </a:cubicBezTo>
                </a:path>
                <a:path w="721" h="696">
                  <a:moveTo>
                    <a:pt x="9376" y="8533"/>
                  </a:moveTo>
                  <a:cubicBezTo>
                    <a:pt x="9368" y="8533"/>
                    <a:pt x="9359" y="8533"/>
                    <a:pt x="9351" y="8533"/>
                  </a:cubicBezTo>
                  <a:cubicBezTo>
                    <a:pt x="9360" y="8506"/>
                    <a:pt x="9369" y="8487"/>
                    <a:pt x="9401" y="8483"/>
                  </a:cubicBezTo>
                  <a:cubicBezTo>
                    <a:pt x="9426" y="8483"/>
                    <a:pt x="9434" y="8483"/>
                    <a:pt x="9451" y="8483"/>
                  </a:cubicBezTo>
                  <a:cubicBezTo>
                    <a:pt x="9451" y="8535"/>
                    <a:pt x="9439" y="8565"/>
                    <a:pt x="9426" y="8607"/>
                  </a:cubicBezTo>
                  <a:cubicBezTo>
                    <a:pt x="9421" y="8622"/>
                    <a:pt x="9413" y="8734"/>
                    <a:pt x="9451" y="8731"/>
                  </a:cubicBezTo>
                  <a:cubicBezTo>
                    <a:pt x="9481" y="8729"/>
                    <a:pt x="9527" y="8699"/>
                    <a:pt x="9550" y="868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54280" y="2982960"/>
              <a:ext cx="625680" cy="312840"/>
            </a:xfrm>
            <a:custGeom>
              <a:avLst/>
              <a:gdLst/>
              <a:ahLst/>
              <a:rect l="l" t="t" r="r" b="b"/>
              <a:pathLst>
                <a:path w="1738" h="869">
                  <a:moveTo>
                    <a:pt x="9922" y="8409"/>
                  </a:moveTo>
                  <a:cubicBezTo>
                    <a:pt x="9961" y="8369"/>
                    <a:pt x="9984" y="8357"/>
                    <a:pt x="9996" y="8310"/>
                  </a:cubicBezTo>
                  <a:cubicBezTo>
                    <a:pt x="9996" y="8261"/>
                    <a:pt x="9934" y="8408"/>
                    <a:pt x="9922" y="8434"/>
                  </a:cubicBezTo>
                  <a:cubicBezTo>
                    <a:pt x="9858" y="8573"/>
                    <a:pt x="9867" y="8710"/>
                    <a:pt x="9897" y="8855"/>
                  </a:cubicBezTo>
                  <a:cubicBezTo>
                    <a:pt x="9913" y="8931"/>
                    <a:pt x="9930" y="8991"/>
                    <a:pt x="9971" y="9054"/>
                  </a:cubicBezTo>
                </a:path>
                <a:path w="1738" h="869">
                  <a:moveTo>
                    <a:pt x="10195" y="8508"/>
                  </a:moveTo>
                  <a:cubicBezTo>
                    <a:pt x="10220" y="8508"/>
                    <a:pt x="10228" y="8508"/>
                    <a:pt x="10244" y="8508"/>
                  </a:cubicBezTo>
                  <a:cubicBezTo>
                    <a:pt x="10229" y="8569"/>
                    <a:pt x="10203" y="8637"/>
                    <a:pt x="10195" y="8706"/>
                  </a:cubicBezTo>
                  <a:cubicBezTo>
                    <a:pt x="10189" y="8759"/>
                    <a:pt x="10168" y="8946"/>
                    <a:pt x="10220" y="8979"/>
                  </a:cubicBezTo>
                  <a:cubicBezTo>
                    <a:pt x="10263" y="9006"/>
                    <a:pt x="10331" y="8963"/>
                    <a:pt x="10368" y="8954"/>
                  </a:cubicBezTo>
                  <a:cubicBezTo>
                    <a:pt x="10440" y="8936"/>
                    <a:pt x="10532" y="8962"/>
                    <a:pt x="10567" y="8979"/>
                  </a:cubicBezTo>
                  <a:cubicBezTo>
                    <a:pt x="10575" y="8979"/>
                    <a:pt x="10584" y="8979"/>
                    <a:pt x="10592" y="8979"/>
                  </a:cubicBezTo>
                </a:path>
                <a:path w="1738" h="869">
                  <a:moveTo>
                    <a:pt x="10418" y="8855"/>
                  </a:moveTo>
                  <a:cubicBezTo>
                    <a:pt x="10418" y="8938"/>
                    <a:pt x="10418" y="9020"/>
                    <a:pt x="10418" y="9103"/>
                  </a:cubicBezTo>
                </a:path>
                <a:path w="1738" h="869">
                  <a:moveTo>
                    <a:pt x="10740" y="8855"/>
                  </a:moveTo>
                  <a:cubicBezTo>
                    <a:pt x="10740" y="8926"/>
                    <a:pt x="10736" y="8813"/>
                    <a:pt x="10740" y="8806"/>
                  </a:cubicBezTo>
                  <a:cubicBezTo>
                    <a:pt x="10754" y="8781"/>
                    <a:pt x="10793" y="8716"/>
                    <a:pt x="10840" y="8756"/>
                  </a:cubicBezTo>
                  <a:cubicBezTo>
                    <a:pt x="10893" y="8801"/>
                    <a:pt x="10889" y="8893"/>
                    <a:pt x="10889" y="8954"/>
                  </a:cubicBezTo>
                  <a:cubicBezTo>
                    <a:pt x="10889" y="9002"/>
                    <a:pt x="10894" y="9054"/>
                    <a:pt x="10840" y="9079"/>
                  </a:cubicBezTo>
                  <a:cubicBezTo>
                    <a:pt x="10807" y="9094"/>
                    <a:pt x="10787" y="9070"/>
                    <a:pt x="10765" y="9054"/>
                  </a:cubicBezTo>
                </a:path>
                <a:path w="1738" h="869">
                  <a:moveTo>
                    <a:pt x="10914" y="8830"/>
                  </a:moveTo>
                  <a:cubicBezTo>
                    <a:pt x="10931" y="8814"/>
                    <a:pt x="10947" y="8797"/>
                    <a:pt x="10964" y="8781"/>
                  </a:cubicBezTo>
                  <a:cubicBezTo>
                    <a:pt x="10954" y="8811"/>
                    <a:pt x="10943" y="8822"/>
                    <a:pt x="10914" y="8855"/>
                  </a:cubicBezTo>
                  <a:cubicBezTo>
                    <a:pt x="10874" y="8900"/>
                    <a:pt x="10878" y="8959"/>
                    <a:pt x="10914" y="9004"/>
                  </a:cubicBezTo>
                  <a:cubicBezTo>
                    <a:pt x="10957" y="9058"/>
                    <a:pt x="10997" y="9012"/>
                    <a:pt x="11038" y="8979"/>
                  </a:cubicBezTo>
                </a:path>
                <a:path w="1738" h="869">
                  <a:moveTo>
                    <a:pt x="11088" y="8657"/>
                  </a:moveTo>
                  <a:cubicBezTo>
                    <a:pt x="11088" y="8665"/>
                    <a:pt x="11088" y="8674"/>
                    <a:pt x="11088" y="8682"/>
                  </a:cubicBezTo>
                  <a:cubicBezTo>
                    <a:pt x="11129" y="8682"/>
                    <a:pt x="11171" y="8682"/>
                    <a:pt x="11212" y="8682"/>
                  </a:cubicBezTo>
                </a:path>
                <a:path w="1738" h="869">
                  <a:moveTo>
                    <a:pt x="11385" y="8582"/>
                  </a:moveTo>
                  <a:cubicBezTo>
                    <a:pt x="11385" y="8558"/>
                    <a:pt x="11385" y="8550"/>
                    <a:pt x="11410" y="8558"/>
                  </a:cubicBezTo>
                  <a:cubicBezTo>
                    <a:pt x="11410" y="8632"/>
                    <a:pt x="11410" y="8707"/>
                    <a:pt x="11410" y="8781"/>
                  </a:cubicBezTo>
                </a:path>
                <a:path w="1738" h="869">
                  <a:moveTo>
                    <a:pt x="11361" y="8334"/>
                  </a:moveTo>
                  <a:cubicBezTo>
                    <a:pt x="11413" y="8312"/>
                    <a:pt x="11431" y="8310"/>
                    <a:pt x="11485" y="8310"/>
                  </a:cubicBezTo>
                  <a:cubicBezTo>
                    <a:pt x="11544" y="8310"/>
                    <a:pt x="11576" y="8384"/>
                    <a:pt x="11584" y="8434"/>
                  </a:cubicBezTo>
                  <a:cubicBezTo>
                    <a:pt x="11604" y="8557"/>
                    <a:pt x="11609" y="8680"/>
                    <a:pt x="11609" y="8806"/>
                  </a:cubicBezTo>
                  <a:cubicBezTo>
                    <a:pt x="11609" y="8911"/>
                    <a:pt x="11585" y="9033"/>
                    <a:pt x="11534" y="9128"/>
                  </a:cubicBezTo>
                  <a:cubicBezTo>
                    <a:pt x="11526" y="9136"/>
                    <a:pt x="11517" y="9145"/>
                    <a:pt x="11509" y="915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62680" y="3197160"/>
              <a:ext cx="161640" cy="125640"/>
            </a:xfrm>
            <a:custGeom>
              <a:avLst/>
              <a:gdLst/>
              <a:ahLst/>
              <a:rect l="l" t="t" r="r" b="b"/>
              <a:pathLst>
                <a:path w="448" h="348">
                  <a:moveTo>
                    <a:pt x="14139" y="8979"/>
                  </a:moveTo>
                  <a:cubicBezTo>
                    <a:pt x="14097" y="8979"/>
                    <a:pt x="14089" y="8979"/>
                    <a:pt x="14064" y="8979"/>
                  </a:cubicBezTo>
                  <a:cubicBezTo>
                    <a:pt x="14064" y="8943"/>
                    <a:pt x="14070" y="8893"/>
                    <a:pt x="14114" y="8880"/>
                  </a:cubicBezTo>
                  <a:cubicBezTo>
                    <a:pt x="14154" y="8868"/>
                    <a:pt x="14238" y="8873"/>
                    <a:pt x="14263" y="8905"/>
                  </a:cubicBezTo>
                  <a:cubicBezTo>
                    <a:pt x="14318" y="8975"/>
                    <a:pt x="14321" y="9052"/>
                    <a:pt x="14288" y="9128"/>
                  </a:cubicBezTo>
                  <a:cubicBezTo>
                    <a:pt x="14255" y="9203"/>
                    <a:pt x="14219" y="9223"/>
                    <a:pt x="14139" y="9227"/>
                  </a:cubicBezTo>
                  <a:cubicBezTo>
                    <a:pt x="14122" y="9227"/>
                    <a:pt x="14106" y="9227"/>
                    <a:pt x="14089" y="9227"/>
                  </a:cubicBezTo>
                </a:path>
                <a:path w="448" h="348">
                  <a:moveTo>
                    <a:pt x="14263" y="8930"/>
                  </a:moveTo>
                  <a:cubicBezTo>
                    <a:pt x="14337" y="8911"/>
                    <a:pt x="14344" y="8903"/>
                    <a:pt x="14387" y="8905"/>
                  </a:cubicBezTo>
                  <a:cubicBezTo>
                    <a:pt x="14369" y="8932"/>
                    <a:pt x="14303" y="8944"/>
                    <a:pt x="14288" y="9004"/>
                  </a:cubicBezTo>
                  <a:cubicBezTo>
                    <a:pt x="14272" y="9065"/>
                    <a:pt x="14295" y="9156"/>
                    <a:pt x="14362" y="9178"/>
                  </a:cubicBezTo>
                  <a:cubicBezTo>
                    <a:pt x="14421" y="9198"/>
                    <a:pt x="14470" y="9161"/>
                    <a:pt x="14511" y="912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95960" y="3098880"/>
              <a:ext cx="17280" cy="81000"/>
            </a:xfrm>
            <a:custGeom>
              <a:avLst/>
              <a:gdLst/>
              <a:ahLst/>
              <a:rect l="l" t="t" r="r" b="b"/>
              <a:pathLst>
                <a:path w="51" h="224">
                  <a:moveTo>
                    <a:pt x="14709" y="8657"/>
                  </a:moveTo>
                  <a:cubicBezTo>
                    <a:pt x="14717" y="8640"/>
                    <a:pt x="14726" y="8624"/>
                    <a:pt x="14734" y="8607"/>
                  </a:cubicBezTo>
                  <a:cubicBezTo>
                    <a:pt x="14734" y="8689"/>
                    <a:pt x="14730" y="8754"/>
                    <a:pt x="14759" y="883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4080" y="3009960"/>
              <a:ext cx="723960" cy="357120"/>
            </a:xfrm>
            <a:custGeom>
              <a:avLst/>
              <a:gdLst/>
              <a:ahLst/>
              <a:rect l="l" t="t" r="r" b="b"/>
              <a:pathLst>
                <a:path w="2011" h="993">
                  <a:moveTo>
                    <a:pt x="15329" y="8409"/>
                  </a:moveTo>
                  <a:cubicBezTo>
                    <a:pt x="15337" y="8401"/>
                    <a:pt x="15346" y="8392"/>
                    <a:pt x="15354" y="8384"/>
                  </a:cubicBezTo>
                  <a:cubicBezTo>
                    <a:pt x="15336" y="8474"/>
                    <a:pt x="15261" y="8516"/>
                    <a:pt x="15230" y="8607"/>
                  </a:cubicBezTo>
                  <a:cubicBezTo>
                    <a:pt x="15184" y="8746"/>
                    <a:pt x="15157" y="8933"/>
                    <a:pt x="15180" y="9079"/>
                  </a:cubicBezTo>
                  <a:cubicBezTo>
                    <a:pt x="15205" y="9153"/>
                    <a:pt x="15213" y="9178"/>
                    <a:pt x="15230" y="9227"/>
                  </a:cubicBezTo>
                </a:path>
                <a:path w="2011" h="993">
                  <a:moveTo>
                    <a:pt x="15602" y="8632"/>
                  </a:moveTo>
                  <a:cubicBezTo>
                    <a:pt x="15625" y="8609"/>
                    <a:pt x="15629" y="8601"/>
                    <a:pt x="15652" y="8607"/>
                  </a:cubicBezTo>
                  <a:cubicBezTo>
                    <a:pt x="15652" y="8686"/>
                    <a:pt x="15636" y="8758"/>
                    <a:pt x="15627" y="8830"/>
                  </a:cubicBezTo>
                  <a:cubicBezTo>
                    <a:pt x="15624" y="8853"/>
                    <a:pt x="15596" y="9014"/>
                    <a:pt x="15602" y="9029"/>
                  </a:cubicBezTo>
                  <a:cubicBezTo>
                    <a:pt x="15613" y="9055"/>
                    <a:pt x="15677" y="9067"/>
                    <a:pt x="15701" y="9054"/>
                  </a:cubicBezTo>
                  <a:cubicBezTo>
                    <a:pt x="15752" y="9025"/>
                    <a:pt x="15788" y="9029"/>
                    <a:pt x="15850" y="9029"/>
                  </a:cubicBezTo>
                  <a:cubicBezTo>
                    <a:pt x="15897" y="9029"/>
                    <a:pt x="15936" y="9014"/>
                    <a:pt x="15949" y="9054"/>
                  </a:cubicBezTo>
                </a:path>
                <a:path w="2011" h="993">
                  <a:moveTo>
                    <a:pt x="15825" y="8930"/>
                  </a:moveTo>
                  <a:cubicBezTo>
                    <a:pt x="15792" y="8941"/>
                    <a:pt x="15787" y="8985"/>
                    <a:pt x="15801" y="9029"/>
                  </a:cubicBezTo>
                  <a:cubicBezTo>
                    <a:pt x="15821" y="9093"/>
                    <a:pt x="15825" y="9135"/>
                    <a:pt x="15825" y="9203"/>
                  </a:cubicBezTo>
                </a:path>
                <a:path w="2011" h="993">
                  <a:moveTo>
                    <a:pt x="16049" y="8979"/>
                  </a:moveTo>
                  <a:cubicBezTo>
                    <a:pt x="16086" y="8966"/>
                    <a:pt x="16070" y="8954"/>
                    <a:pt x="16123" y="8954"/>
                  </a:cubicBezTo>
                  <a:cubicBezTo>
                    <a:pt x="16173" y="8954"/>
                    <a:pt x="16192" y="8894"/>
                    <a:pt x="16247" y="8954"/>
                  </a:cubicBezTo>
                  <a:cubicBezTo>
                    <a:pt x="16288" y="8998"/>
                    <a:pt x="16272" y="9075"/>
                    <a:pt x="16272" y="9128"/>
                  </a:cubicBezTo>
                  <a:cubicBezTo>
                    <a:pt x="16272" y="9171"/>
                    <a:pt x="16236" y="9199"/>
                    <a:pt x="16197" y="9203"/>
                  </a:cubicBezTo>
                  <a:cubicBezTo>
                    <a:pt x="16189" y="9203"/>
                    <a:pt x="16181" y="9203"/>
                    <a:pt x="16173" y="9203"/>
                  </a:cubicBezTo>
                </a:path>
                <a:path w="2011" h="993">
                  <a:moveTo>
                    <a:pt x="16297" y="8979"/>
                  </a:moveTo>
                  <a:cubicBezTo>
                    <a:pt x="16305" y="8971"/>
                    <a:pt x="16313" y="8962"/>
                    <a:pt x="16321" y="8954"/>
                  </a:cubicBezTo>
                  <a:cubicBezTo>
                    <a:pt x="16311" y="8996"/>
                    <a:pt x="16287" y="9037"/>
                    <a:pt x="16272" y="9079"/>
                  </a:cubicBezTo>
                  <a:cubicBezTo>
                    <a:pt x="16251" y="9137"/>
                    <a:pt x="16222" y="9210"/>
                    <a:pt x="16297" y="9252"/>
                  </a:cubicBezTo>
                  <a:cubicBezTo>
                    <a:pt x="16329" y="9270"/>
                    <a:pt x="16419" y="9193"/>
                    <a:pt x="16446" y="9178"/>
                  </a:cubicBezTo>
                </a:path>
                <a:path w="2011" h="993">
                  <a:moveTo>
                    <a:pt x="16545" y="8930"/>
                  </a:moveTo>
                  <a:cubicBezTo>
                    <a:pt x="16522" y="8907"/>
                    <a:pt x="16514" y="8903"/>
                    <a:pt x="16520" y="8880"/>
                  </a:cubicBezTo>
                  <a:cubicBezTo>
                    <a:pt x="16558" y="8909"/>
                    <a:pt x="16571" y="8905"/>
                    <a:pt x="16619" y="8905"/>
                  </a:cubicBezTo>
                  <a:cubicBezTo>
                    <a:pt x="16661" y="8905"/>
                    <a:pt x="16669" y="8905"/>
                    <a:pt x="16694" y="8905"/>
                  </a:cubicBezTo>
                </a:path>
                <a:path w="2011" h="993">
                  <a:moveTo>
                    <a:pt x="16793" y="8682"/>
                  </a:moveTo>
                  <a:cubicBezTo>
                    <a:pt x="16816" y="8711"/>
                    <a:pt x="16835" y="8767"/>
                    <a:pt x="16842" y="8806"/>
                  </a:cubicBezTo>
                  <a:cubicBezTo>
                    <a:pt x="16842" y="8855"/>
                    <a:pt x="16842" y="8872"/>
                    <a:pt x="16842" y="8905"/>
                  </a:cubicBezTo>
                </a:path>
                <a:path w="2011" h="993">
                  <a:moveTo>
                    <a:pt x="16867" y="8384"/>
                  </a:moveTo>
                  <a:cubicBezTo>
                    <a:pt x="16905" y="8356"/>
                    <a:pt x="16918" y="8359"/>
                    <a:pt x="16966" y="8359"/>
                  </a:cubicBezTo>
                  <a:cubicBezTo>
                    <a:pt x="17011" y="8359"/>
                    <a:pt x="17059" y="8381"/>
                    <a:pt x="17090" y="8409"/>
                  </a:cubicBezTo>
                  <a:cubicBezTo>
                    <a:pt x="17128" y="8444"/>
                    <a:pt x="17147" y="8555"/>
                    <a:pt x="17165" y="8607"/>
                  </a:cubicBezTo>
                  <a:cubicBezTo>
                    <a:pt x="17200" y="8707"/>
                    <a:pt x="17205" y="8847"/>
                    <a:pt x="17190" y="8954"/>
                  </a:cubicBezTo>
                  <a:cubicBezTo>
                    <a:pt x="17174" y="9065"/>
                    <a:pt x="17139" y="9166"/>
                    <a:pt x="17090" y="9252"/>
                  </a:cubicBezTo>
                  <a:cubicBezTo>
                    <a:pt x="17066" y="9302"/>
                    <a:pt x="17058" y="9318"/>
                    <a:pt x="17041" y="935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76960" y="2982960"/>
              <a:ext cx="90360" cy="98280"/>
            </a:xfrm>
            <a:custGeom>
              <a:avLst/>
              <a:gdLst/>
              <a:ahLst/>
              <a:rect l="l" t="t" r="r" b="b"/>
              <a:pathLst>
                <a:path w="249" h="274">
                  <a:moveTo>
                    <a:pt x="17462" y="8334"/>
                  </a:moveTo>
                  <a:cubicBezTo>
                    <a:pt x="17438" y="8334"/>
                    <a:pt x="17430" y="8334"/>
                    <a:pt x="17438" y="8310"/>
                  </a:cubicBezTo>
                  <a:cubicBezTo>
                    <a:pt x="17483" y="8310"/>
                    <a:pt x="17497" y="8289"/>
                    <a:pt x="17537" y="8285"/>
                  </a:cubicBezTo>
                  <a:cubicBezTo>
                    <a:pt x="17545" y="8285"/>
                    <a:pt x="17554" y="8285"/>
                    <a:pt x="17562" y="8285"/>
                  </a:cubicBezTo>
                  <a:cubicBezTo>
                    <a:pt x="17562" y="8352"/>
                    <a:pt x="17578" y="8432"/>
                    <a:pt x="17537" y="8483"/>
                  </a:cubicBezTo>
                  <a:cubicBezTo>
                    <a:pt x="17510" y="8517"/>
                    <a:pt x="17512" y="8515"/>
                    <a:pt x="17512" y="8558"/>
                  </a:cubicBezTo>
                  <a:cubicBezTo>
                    <a:pt x="17570" y="8558"/>
                    <a:pt x="17628" y="8558"/>
                    <a:pt x="17686" y="855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0840" y="3000240"/>
              <a:ext cx="803160" cy="420840"/>
            </a:xfrm>
            <a:custGeom>
              <a:avLst/>
              <a:gdLst/>
              <a:ahLst/>
              <a:rect l="l" t="t" r="r" b="b"/>
              <a:pathLst>
                <a:path w="2234" h="1167">
                  <a:moveTo>
                    <a:pt x="20117" y="8930"/>
                  </a:moveTo>
                  <a:cubicBezTo>
                    <a:pt x="20158" y="8870"/>
                    <a:pt x="20196" y="8811"/>
                    <a:pt x="20241" y="8756"/>
                  </a:cubicBezTo>
                  <a:cubicBezTo>
                    <a:pt x="20241" y="8817"/>
                    <a:pt x="20216" y="8873"/>
                    <a:pt x="20191" y="8930"/>
                  </a:cubicBezTo>
                  <a:cubicBezTo>
                    <a:pt x="20154" y="9014"/>
                    <a:pt x="20141" y="9058"/>
                    <a:pt x="20141" y="9153"/>
                  </a:cubicBezTo>
                  <a:cubicBezTo>
                    <a:pt x="20141" y="9243"/>
                    <a:pt x="20196" y="9227"/>
                    <a:pt x="20265" y="9227"/>
                  </a:cubicBezTo>
                  <a:cubicBezTo>
                    <a:pt x="20364" y="9227"/>
                    <a:pt x="20454" y="9224"/>
                    <a:pt x="20538" y="9252"/>
                  </a:cubicBezTo>
                  <a:cubicBezTo>
                    <a:pt x="20563" y="9252"/>
                    <a:pt x="20571" y="9252"/>
                    <a:pt x="20563" y="9277"/>
                  </a:cubicBezTo>
                </a:path>
                <a:path w="2234" h="1167">
                  <a:moveTo>
                    <a:pt x="20414" y="9227"/>
                  </a:moveTo>
                  <a:cubicBezTo>
                    <a:pt x="20398" y="9211"/>
                    <a:pt x="20381" y="9194"/>
                    <a:pt x="20365" y="9178"/>
                  </a:cubicBezTo>
                  <a:cubicBezTo>
                    <a:pt x="20365" y="9261"/>
                    <a:pt x="20365" y="9343"/>
                    <a:pt x="20365" y="9426"/>
                  </a:cubicBezTo>
                </a:path>
                <a:path w="2234" h="1167">
                  <a:moveTo>
                    <a:pt x="19993" y="8632"/>
                  </a:moveTo>
                  <a:cubicBezTo>
                    <a:pt x="20004" y="8620"/>
                    <a:pt x="20108" y="8517"/>
                    <a:pt x="20042" y="8582"/>
                  </a:cubicBezTo>
                  <a:cubicBezTo>
                    <a:pt x="19980" y="8644"/>
                    <a:pt x="19930" y="8794"/>
                    <a:pt x="19918" y="8880"/>
                  </a:cubicBezTo>
                  <a:cubicBezTo>
                    <a:pt x="19899" y="9013"/>
                    <a:pt x="19919" y="9153"/>
                    <a:pt x="19968" y="9277"/>
                  </a:cubicBezTo>
                  <a:cubicBezTo>
                    <a:pt x="19976" y="9294"/>
                    <a:pt x="19985" y="9310"/>
                    <a:pt x="19993" y="9327"/>
                  </a:cubicBezTo>
                </a:path>
                <a:path w="2234" h="1167">
                  <a:moveTo>
                    <a:pt x="20687" y="9128"/>
                  </a:moveTo>
                  <a:cubicBezTo>
                    <a:pt x="20679" y="9128"/>
                    <a:pt x="20670" y="9128"/>
                    <a:pt x="20662" y="9128"/>
                  </a:cubicBezTo>
                  <a:cubicBezTo>
                    <a:pt x="20672" y="9099"/>
                    <a:pt x="20696" y="9083"/>
                    <a:pt x="20737" y="9079"/>
                  </a:cubicBezTo>
                  <a:cubicBezTo>
                    <a:pt x="20781" y="9074"/>
                    <a:pt x="20811" y="9089"/>
                    <a:pt x="20836" y="9128"/>
                  </a:cubicBezTo>
                  <a:cubicBezTo>
                    <a:pt x="20874" y="9188"/>
                    <a:pt x="20873" y="9267"/>
                    <a:pt x="20836" y="9327"/>
                  </a:cubicBezTo>
                  <a:cubicBezTo>
                    <a:pt x="20816" y="9360"/>
                    <a:pt x="20747" y="9399"/>
                    <a:pt x="20712" y="9401"/>
                  </a:cubicBezTo>
                  <a:cubicBezTo>
                    <a:pt x="20671" y="9401"/>
                    <a:pt x="20663" y="9401"/>
                    <a:pt x="20638" y="9401"/>
                  </a:cubicBezTo>
                </a:path>
                <a:path w="2234" h="1167">
                  <a:moveTo>
                    <a:pt x="20836" y="9178"/>
                  </a:moveTo>
                  <a:cubicBezTo>
                    <a:pt x="20875" y="9139"/>
                    <a:pt x="20892" y="9137"/>
                    <a:pt x="20886" y="9103"/>
                  </a:cubicBezTo>
                  <a:cubicBezTo>
                    <a:pt x="20831" y="9131"/>
                    <a:pt x="20836" y="9163"/>
                    <a:pt x="20836" y="9227"/>
                  </a:cubicBezTo>
                  <a:cubicBezTo>
                    <a:pt x="20836" y="9294"/>
                    <a:pt x="20862" y="9380"/>
                    <a:pt x="20935" y="9401"/>
                  </a:cubicBezTo>
                  <a:cubicBezTo>
                    <a:pt x="20987" y="9401"/>
                    <a:pt x="21005" y="9399"/>
                    <a:pt x="21010" y="9351"/>
                  </a:cubicBezTo>
                </a:path>
                <a:path w="2234" h="1167">
                  <a:moveTo>
                    <a:pt x="21183" y="9079"/>
                  </a:moveTo>
                  <a:cubicBezTo>
                    <a:pt x="21221" y="9106"/>
                    <a:pt x="21235" y="9103"/>
                    <a:pt x="21282" y="9103"/>
                  </a:cubicBezTo>
                  <a:cubicBezTo>
                    <a:pt x="21307" y="9103"/>
                    <a:pt x="21315" y="9103"/>
                    <a:pt x="21332" y="9103"/>
                  </a:cubicBezTo>
                </a:path>
                <a:path w="2234" h="1167">
                  <a:moveTo>
                    <a:pt x="21530" y="8954"/>
                  </a:moveTo>
                  <a:cubicBezTo>
                    <a:pt x="21530" y="8875"/>
                    <a:pt x="21530" y="9052"/>
                    <a:pt x="21530" y="9054"/>
                  </a:cubicBezTo>
                  <a:cubicBezTo>
                    <a:pt x="21530" y="9095"/>
                    <a:pt x="21530" y="9103"/>
                    <a:pt x="21530" y="9128"/>
                  </a:cubicBezTo>
                </a:path>
                <a:path w="2234" h="1167">
                  <a:moveTo>
                    <a:pt x="21605" y="8632"/>
                  </a:moveTo>
                  <a:cubicBezTo>
                    <a:pt x="21730" y="8607"/>
                    <a:pt x="21741" y="8651"/>
                    <a:pt x="21779" y="8781"/>
                  </a:cubicBezTo>
                  <a:cubicBezTo>
                    <a:pt x="21822" y="8927"/>
                    <a:pt x="21827" y="9130"/>
                    <a:pt x="21779" y="9277"/>
                  </a:cubicBezTo>
                  <a:cubicBezTo>
                    <a:pt x="21747" y="9375"/>
                    <a:pt x="21675" y="9430"/>
                    <a:pt x="21605" y="9500"/>
                  </a:cubicBezTo>
                </a:path>
                <a:path w="2234" h="1167">
                  <a:moveTo>
                    <a:pt x="21952" y="8384"/>
                  </a:moveTo>
                  <a:cubicBezTo>
                    <a:pt x="21996" y="8373"/>
                    <a:pt x="22027" y="8346"/>
                    <a:pt x="22076" y="8334"/>
                  </a:cubicBezTo>
                  <a:cubicBezTo>
                    <a:pt x="22101" y="8334"/>
                    <a:pt x="22109" y="8334"/>
                    <a:pt x="22126" y="8334"/>
                  </a:cubicBezTo>
                  <a:cubicBezTo>
                    <a:pt x="22126" y="8391"/>
                    <a:pt x="22116" y="8412"/>
                    <a:pt x="22101" y="8458"/>
                  </a:cubicBezTo>
                  <a:cubicBezTo>
                    <a:pt x="22079" y="8523"/>
                    <a:pt x="22039" y="8518"/>
                    <a:pt x="22076" y="8582"/>
                  </a:cubicBezTo>
                  <a:cubicBezTo>
                    <a:pt x="22110" y="8641"/>
                    <a:pt x="22094" y="8632"/>
                    <a:pt x="22151" y="8632"/>
                  </a:cubicBezTo>
                  <a:cubicBezTo>
                    <a:pt x="22139" y="8680"/>
                    <a:pt x="22128" y="8712"/>
                    <a:pt x="22076" y="8731"/>
                  </a:cubicBezTo>
                  <a:cubicBezTo>
                    <a:pt x="22051" y="8731"/>
                    <a:pt x="22043" y="8731"/>
                    <a:pt x="22027" y="873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411200" y="402732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4118" y="11212"/>
                </a:moveTo>
                <a:cubicBezTo>
                  <a:pt x="4126" y="11212"/>
                  <a:pt x="4134" y="11212"/>
                  <a:pt x="4142" y="11212"/>
                </a:cubicBezTo>
                <a:cubicBezTo>
                  <a:pt x="4124" y="11155"/>
                  <a:pt x="4092" y="11221"/>
                  <a:pt x="4043" y="11237"/>
                </a:cubicBezTo>
                <a:cubicBezTo>
                  <a:pt x="4013" y="11247"/>
                  <a:pt x="3949" y="11237"/>
                  <a:pt x="3919" y="11237"/>
                </a:cubicBezTo>
              </a:path>
              <a:path w="224" h="323">
                <a:moveTo>
                  <a:pt x="4043" y="11361"/>
                </a:moveTo>
                <a:cubicBezTo>
                  <a:pt x="4088" y="11413"/>
                  <a:pt x="4118" y="11429"/>
                  <a:pt x="4068" y="11485"/>
                </a:cubicBezTo>
                <a:cubicBezTo>
                  <a:pt x="4060" y="11493"/>
                  <a:pt x="4051" y="11501"/>
                  <a:pt x="4043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4800" y="3857760"/>
            <a:ext cx="376200" cy="339480"/>
          </a:xfrm>
          <a:custGeom>
            <a:avLst/>
            <a:gdLst/>
            <a:ahLst/>
            <a:rect l="l" t="t" r="r" b="b"/>
            <a:pathLst>
              <a:path w="1043" h="943">
                <a:moveTo>
                  <a:pt x="5779" y="11336"/>
                </a:moveTo>
                <a:cubicBezTo>
                  <a:pt x="5753" y="11336"/>
                  <a:pt x="5692" y="11328"/>
                  <a:pt x="5680" y="11311"/>
                </a:cubicBezTo>
                <a:cubicBezTo>
                  <a:pt x="5680" y="11303"/>
                  <a:pt x="5680" y="11294"/>
                  <a:pt x="5680" y="11286"/>
                </a:cubicBezTo>
                <a:cubicBezTo>
                  <a:pt x="5746" y="11247"/>
                  <a:pt x="5800" y="11235"/>
                  <a:pt x="5879" y="11261"/>
                </a:cubicBezTo>
                <a:cubicBezTo>
                  <a:pt x="5956" y="11287"/>
                  <a:pt x="6031" y="11429"/>
                  <a:pt x="6028" y="11509"/>
                </a:cubicBezTo>
                <a:cubicBezTo>
                  <a:pt x="6024" y="11607"/>
                  <a:pt x="5955" y="11651"/>
                  <a:pt x="5879" y="11658"/>
                </a:cubicBezTo>
                <a:cubicBezTo>
                  <a:pt x="5839" y="11662"/>
                  <a:pt x="5796" y="11658"/>
                  <a:pt x="5755" y="11658"/>
                </a:cubicBezTo>
              </a:path>
              <a:path w="1043" h="943">
                <a:moveTo>
                  <a:pt x="6077" y="11237"/>
                </a:moveTo>
                <a:cubicBezTo>
                  <a:pt x="6094" y="11212"/>
                  <a:pt x="6110" y="11187"/>
                  <a:pt x="6127" y="11162"/>
                </a:cubicBezTo>
                <a:cubicBezTo>
                  <a:pt x="6041" y="11211"/>
                  <a:pt x="6033" y="11234"/>
                  <a:pt x="6028" y="11336"/>
                </a:cubicBezTo>
                <a:cubicBezTo>
                  <a:pt x="6024" y="11428"/>
                  <a:pt x="6091" y="11513"/>
                  <a:pt x="6176" y="11534"/>
                </a:cubicBezTo>
                <a:cubicBezTo>
                  <a:pt x="6230" y="11548"/>
                  <a:pt x="6279" y="11507"/>
                  <a:pt x="6325" y="11485"/>
                </a:cubicBezTo>
              </a:path>
              <a:path w="1043" h="943">
                <a:moveTo>
                  <a:pt x="6400" y="10889"/>
                </a:moveTo>
                <a:cubicBezTo>
                  <a:pt x="6375" y="10832"/>
                  <a:pt x="6359" y="10813"/>
                  <a:pt x="6400" y="10765"/>
                </a:cubicBezTo>
                <a:cubicBezTo>
                  <a:pt x="6416" y="10747"/>
                  <a:pt x="6497" y="10685"/>
                  <a:pt x="6524" y="10716"/>
                </a:cubicBezTo>
                <a:cubicBezTo>
                  <a:pt x="6560" y="10756"/>
                  <a:pt x="6594" y="10834"/>
                  <a:pt x="6573" y="10889"/>
                </a:cubicBezTo>
                <a:cubicBezTo>
                  <a:pt x="6560" y="10922"/>
                  <a:pt x="6499" y="10966"/>
                  <a:pt x="6524" y="11013"/>
                </a:cubicBezTo>
                <a:cubicBezTo>
                  <a:pt x="6550" y="11062"/>
                  <a:pt x="6632" y="11045"/>
                  <a:pt x="6672" y="11063"/>
                </a:cubicBezTo>
                <a:cubicBezTo>
                  <a:pt x="6697" y="11088"/>
                  <a:pt x="6705" y="11096"/>
                  <a:pt x="6722" y="11112"/>
                </a:cubicBezTo>
                <a:cubicBezTo>
                  <a:pt x="6674" y="11160"/>
                  <a:pt x="6655" y="11179"/>
                  <a:pt x="6598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5040" y="3875040"/>
            <a:ext cx="1670040" cy="366840"/>
          </a:xfrm>
          <a:custGeom>
            <a:avLst/>
            <a:gdLst/>
            <a:ahLst/>
            <a:rect l="l" t="t" r="r" b="b"/>
            <a:pathLst>
              <a:path w="4639" h="1018">
                <a:moveTo>
                  <a:pt x="8979" y="11261"/>
                </a:moveTo>
                <a:cubicBezTo>
                  <a:pt x="8972" y="11261"/>
                  <a:pt x="8889" y="11261"/>
                  <a:pt x="8954" y="11261"/>
                </a:cubicBezTo>
                <a:cubicBezTo>
                  <a:pt x="9010" y="11229"/>
                  <a:pt x="9109" y="11222"/>
                  <a:pt x="9178" y="11237"/>
                </a:cubicBezTo>
                <a:cubicBezTo>
                  <a:pt x="9270" y="11257"/>
                  <a:pt x="9313" y="11406"/>
                  <a:pt x="9277" y="11485"/>
                </a:cubicBezTo>
                <a:cubicBezTo>
                  <a:pt x="9238" y="11569"/>
                  <a:pt x="9146" y="11641"/>
                  <a:pt x="9054" y="11658"/>
                </a:cubicBezTo>
                <a:cubicBezTo>
                  <a:pt x="9037" y="11658"/>
                  <a:pt x="9021" y="11658"/>
                  <a:pt x="9004" y="11658"/>
                </a:cubicBezTo>
              </a:path>
              <a:path w="4639" h="1018">
                <a:moveTo>
                  <a:pt x="9252" y="11187"/>
                </a:moveTo>
                <a:cubicBezTo>
                  <a:pt x="9269" y="11179"/>
                  <a:pt x="9285" y="11170"/>
                  <a:pt x="9302" y="11162"/>
                </a:cubicBezTo>
                <a:cubicBezTo>
                  <a:pt x="9289" y="11214"/>
                  <a:pt x="9250" y="11281"/>
                  <a:pt x="9227" y="11336"/>
                </a:cubicBezTo>
                <a:cubicBezTo>
                  <a:pt x="9198" y="11405"/>
                  <a:pt x="9188" y="11493"/>
                  <a:pt x="9277" y="11534"/>
                </a:cubicBezTo>
                <a:cubicBezTo>
                  <a:pt x="9336" y="11534"/>
                  <a:pt x="9362" y="11531"/>
                  <a:pt x="9401" y="11509"/>
                </a:cubicBezTo>
              </a:path>
              <a:path w="4639" h="1018">
                <a:moveTo>
                  <a:pt x="9550" y="10864"/>
                </a:moveTo>
                <a:cubicBezTo>
                  <a:pt x="9542" y="10856"/>
                  <a:pt x="9533" y="10848"/>
                  <a:pt x="9525" y="10840"/>
                </a:cubicBezTo>
                <a:cubicBezTo>
                  <a:pt x="9535" y="10811"/>
                  <a:pt x="9581" y="10780"/>
                  <a:pt x="9624" y="10765"/>
                </a:cubicBezTo>
                <a:cubicBezTo>
                  <a:pt x="9657" y="10765"/>
                  <a:pt x="9674" y="10765"/>
                  <a:pt x="9699" y="10765"/>
                </a:cubicBezTo>
                <a:cubicBezTo>
                  <a:pt x="9699" y="10834"/>
                  <a:pt x="9704" y="10883"/>
                  <a:pt x="9674" y="10939"/>
                </a:cubicBezTo>
                <a:cubicBezTo>
                  <a:pt x="9654" y="10976"/>
                  <a:pt x="9619" y="11061"/>
                  <a:pt x="9674" y="11088"/>
                </a:cubicBezTo>
                <a:cubicBezTo>
                  <a:pt x="9714" y="11108"/>
                  <a:pt x="9765" y="11076"/>
                  <a:pt x="9798" y="11063"/>
                </a:cubicBezTo>
              </a:path>
              <a:path w="4639" h="1018">
                <a:moveTo>
                  <a:pt x="10294" y="11063"/>
                </a:moveTo>
                <a:cubicBezTo>
                  <a:pt x="10320" y="11001"/>
                  <a:pt x="10333" y="10990"/>
                  <a:pt x="10294" y="10939"/>
                </a:cubicBezTo>
                <a:cubicBezTo>
                  <a:pt x="10206" y="11027"/>
                  <a:pt x="10194" y="11086"/>
                  <a:pt x="10170" y="11212"/>
                </a:cubicBezTo>
                <a:cubicBezTo>
                  <a:pt x="10136" y="11392"/>
                  <a:pt x="10136" y="11558"/>
                  <a:pt x="10195" y="11733"/>
                </a:cubicBezTo>
                <a:cubicBezTo>
                  <a:pt x="10203" y="11749"/>
                  <a:pt x="10212" y="11766"/>
                  <a:pt x="10220" y="11782"/>
                </a:cubicBezTo>
              </a:path>
              <a:path w="4639" h="1018">
                <a:moveTo>
                  <a:pt x="10468" y="11137"/>
                </a:moveTo>
                <a:cubicBezTo>
                  <a:pt x="10484" y="11121"/>
                  <a:pt x="10501" y="11104"/>
                  <a:pt x="10517" y="11088"/>
                </a:cubicBezTo>
                <a:cubicBezTo>
                  <a:pt x="10505" y="11148"/>
                  <a:pt x="10453" y="11202"/>
                  <a:pt x="10443" y="11261"/>
                </a:cubicBezTo>
                <a:cubicBezTo>
                  <a:pt x="10431" y="11328"/>
                  <a:pt x="10426" y="11451"/>
                  <a:pt x="10468" y="11509"/>
                </a:cubicBezTo>
                <a:cubicBezTo>
                  <a:pt x="10518" y="11578"/>
                  <a:pt x="10565" y="11559"/>
                  <a:pt x="10641" y="11559"/>
                </a:cubicBezTo>
                <a:cubicBezTo>
                  <a:pt x="10705" y="11559"/>
                  <a:pt x="10749" y="11534"/>
                  <a:pt x="10815" y="11534"/>
                </a:cubicBezTo>
                <a:cubicBezTo>
                  <a:pt x="10831" y="11534"/>
                  <a:pt x="10848" y="11534"/>
                  <a:pt x="10864" y="11534"/>
                </a:cubicBezTo>
              </a:path>
              <a:path w="4639" h="1018">
                <a:moveTo>
                  <a:pt x="10740" y="11410"/>
                </a:moveTo>
                <a:cubicBezTo>
                  <a:pt x="10630" y="11442"/>
                  <a:pt x="10676" y="11483"/>
                  <a:pt x="10691" y="11584"/>
                </a:cubicBezTo>
                <a:cubicBezTo>
                  <a:pt x="10697" y="11623"/>
                  <a:pt x="10691" y="11668"/>
                  <a:pt x="10691" y="11708"/>
                </a:cubicBezTo>
              </a:path>
              <a:path w="4639" h="1018">
                <a:moveTo>
                  <a:pt x="10889" y="11435"/>
                </a:moveTo>
                <a:cubicBezTo>
                  <a:pt x="10950" y="11435"/>
                  <a:pt x="11017" y="11419"/>
                  <a:pt x="11063" y="11460"/>
                </a:cubicBezTo>
                <a:cubicBezTo>
                  <a:pt x="11106" y="11498"/>
                  <a:pt x="11133" y="11575"/>
                  <a:pt x="11112" y="11633"/>
                </a:cubicBezTo>
                <a:cubicBezTo>
                  <a:pt x="11091" y="11689"/>
                  <a:pt x="11035" y="11683"/>
                  <a:pt x="10988" y="11683"/>
                </a:cubicBezTo>
              </a:path>
              <a:path w="4639" h="1018">
                <a:moveTo>
                  <a:pt x="11112" y="11385"/>
                </a:moveTo>
                <a:cubicBezTo>
                  <a:pt x="11129" y="11360"/>
                  <a:pt x="11145" y="11336"/>
                  <a:pt x="11162" y="11311"/>
                </a:cubicBezTo>
                <a:cubicBezTo>
                  <a:pt x="11162" y="11376"/>
                  <a:pt x="11141" y="11422"/>
                  <a:pt x="11137" y="11485"/>
                </a:cubicBezTo>
                <a:cubicBezTo>
                  <a:pt x="11134" y="11540"/>
                  <a:pt x="11119" y="11604"/>
                  <a:pt x="11187" y="11609"/>
                </a:cubicBezTo>
                <a:cubicBezTo>
                  <a:pt x="11250" y="11613"/>
                  <a:pt x="11287" y="11592"/>
                  <a:pt x="11336" y="11559"/>
                </a:cubicBezTo>
              </a:path>
              <a:path w="4639" h="1018">
                <a:moveTo>
                  <a:pt x="11435" y="11162"/>
                </a:moveTo>
                <a:cubicBezTo>
                  <a:pt x="11427" y="11162"/>
                  <a:pt x="11418" y="11162"/>
                  <a:pt x="11410" y="11162"/>
                </a:cubicBezTo>
                <a:cubicBezTo>
                  <a:pt x="11448" y="11190"/>
                  <a:pt x="11461" y="11187"/>
                  <a:pt x="11509" y="11187"/>
                </a:cubicBezTo>
                <a:cubicBezTo>
                  <a:pt x="11534" y="11187"/>
                  <a:pt x="11542" y="11187"/>
                  <a:pt x="11559" y="11187"/>
                </a:cubicBezTo>
              </a:path>
              <a:path w="4639" h="1018">
                <a:moveTo>
                  <a:pt x="11733" y="11088"/>
                </a:moveTo>
                <a:cubicBezTo>
                  <a:pt x="11733" y="11071"/>
                  <a:pt x="11733" y="11055"/>
                  <a:pt x="11733" y="11038"/>
                </a:cubicBezTo>
                <a:cubicBezTo>
                  <a:pt x="11733" y="11106"/>
                  <a:pt x="11734" y="11148"/>
                  <a:pt x="11757" y="11212"/>
                </a:cubicBezTo>
              </a:path>
              <a:path w="4639" h="1018">
                <a:moveTo>
                  <a:pt x="11782" y="10864"/>
                </a:moveTo>
                <a:cubicBezTo>
                  <a:pt x="11904" y="10786"/>
                  <a:pt x="11945" y="10747"/>
                  <a:pt x="12030" y="10889"/>
                </a:cubicBezTo>
                <a:cubicBezTo>
                  <a:pt x="12131" y="11057"/>
                  <a:pt x="12150" y="11218"/>
                  <a:pt x="12154" y="11410"/>
                </a:cubicBezTo>
                <a:cubicBezTo>
                  <a:pt x="12156" y="11523"/>
                  <a:pt x="12137" y="11602"/>
                  <a:pt x="12105" y="11708"/>
                </a:cubicBezTo>
              </a:path>
              <a:path w="4639" h="1018">
                <a:moveTo>
                  <a:pt x="8037" y="11336"/>
                </a:moveTo>
                <a:cubicBezTo>
                  <a:pt x="7980" y="11336"/>
                  <a:pt x="7959" y="11346"/>
                  <a:pt x="7913" y="11361"/>
                </a:cubicBezTo>
                <a:cubicBezTo>
                  <a:pt x="7882" y="11371"/>
                  <a:pt x="7842" y="11404"/>
                  <a:pt x="7813" y="11410"/>
                </a:cubicBezTo>
                <a:cubicBezTo>
                  <a:pt x="7754" y="11423"/>
                  <a:pt x="7717" y="11432"/>
                  <a:pt x="7665" y="11460"/>
                </a:cubicBezTo>
                <a:cubicBezTo>
                  <a:pt x="7626" y="11481"/>
                  <a:pt x="7603" y="11500"/>
                  <a:pt x="7565" y="11509"/>
                </a:cubicBezTo>
                <a:cubicBezTo>
                  <a:pt x="7550" y="11556"/>
                  <a:pt x="7532" y="11512"/>
                  <a:pt x="7516" y="11559"/>
                </a:cubicBezTo>
              </a:path>
              <a:path w="4639" h="1018">
                <a:moveTo>
                  <a:pt x="8310" y="10939"/>
                </a:moveTo>
                <a:cubicBezTo>
                  <a:pt x="8321" y="10905"/>
                  <a:pt x="8328" y="10903"/>
                  <a:pt x="8359" y="10889"/>
                </a:cubicBezTo>
                <a:cubicBezTo>
                  <a:pt x="8429" y="10857"/>
                  <a:pt x="8500" y="10815"/>
                  <a:pt x="8582" y="10840"/>
                </a:cubicBezTo>
                <a:cubicBezTo>
                  <a:pt x="8637" y="10857"/>
                  <a:pt x="8678" y="10943"/>
                  <a:pt x="8682" y="10988"/>
                </a:cubicBezTo>
                <a:cubicBezTo>
                  <a:pt x="8689" y="11070"/>
                  <a:pt x="8664" y="11080"/>
                  <a:pt x="8607" y="11137"/>
                </a:cubicBezTo>
                <a:cubicBezTo>
                  <a:pt x="8563" y="11181"/>
                  <a:pt x="8538" y="11228"/>
                  <a:pt x="8533" y="11286"/>
                </a:cubicBezTo>
                <a:cubicBezTo>
                  <a:pt x="8527" y="11358"/>
                  <a:pt x="8589" y="11371"/>
                  <a:pt x="8632" y="11410"/>
                </a:cubicBezTo>
                <a:cubicBezTo>
                  <a:pt x="8669" y="11443"/>
                  <a:pt x="8726" y="11487"/>
                  <a:pt x="8731" y="11534"/>
                </a:cubicBezTo>
                <a:cubicBezTo>
                  <a:pt x="8737" y="11584"/>
                  <a:pt x="8732" y="11589"/>
                  <a:pt x="8706" y="11609"/>
                </a:cubicBezTo>
                <a:cubicBezTo>
                  <a:pt x="8656" y="11646"/>
                  <a:pt x="8596" y="11633"/>
                  <a:pt x="8533" y="11633"/>
                </a:cubicBezTo>
                <a:cubicBezTo>
                  <a:pt x="8505" y="11633"/>
                  <a:pt x="8494" y="11635"/>
                  <a:pt x="8483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26000" y="4017960"/>
            <a:ext cx="223920" cy="20628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13419" y="11336"/>
                </a:moveTo>
                <a:cubicBezTo>
                  <a:pt x="13447" y="11336"/>
                  <a:pt x="13458" y="11334"/>
                  <a:pt x="13469" y="11311"/>
                </a:cubicBezTo>
                <a:cubicBezTo>
                  <a:pt x="13410" y="11311"/>
                  <a:pt x="13374" y="11329"/>
                  <a:pt x="13320" y="11336"/>
                </a:cubicBezTo>
                <a:cubicBezTo>
                  <a:pt x="13239" y="11347"/>
                  <a:pt x="13151" y="11358"/>
                  <a:pt x="13072" y="11361"/>
                </a:cubicBezTo>
                <a:cubicBezTo>
                  <a:pt x="12998" y="11364"/>
                  <a:pt x="12923" y="11361"/>
                  <a:pt x="12849" y="11361"/>
                </a:cubicBezTo>
              </a:path>
              <a:path w="621" h="572">
                <a:moveTo>
                  <a:pt x="12998" y="11212"/>
                </a:moveTo>
                <a:cubicBezTo>
                  <a:pt x="13018" y="11171"/>
                  <a:pt x="13015" y="11154"/>
                  <a:pt x="13047" y="11162"/>
                </a:cubicBezTo>
                <a:cubicBezTo>
                  <a:pt x="13047" y="11249"/>
                  <a:pt x="13069" y="11322"/>
                  <a:pt x="13072" y="11410"/>
                </a:cubicBezTo>
                <a:cubicBezTo>
                  <a:pt x="13075" y="11521"/>
                  <a:pt x="13097" y="11622"/>
                  <a:pt x="13097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3120" y="3875040"/>
            <a:ext cx="1473120" cy="411120"/>
          </a:xfrm>
          <a:custGeom>
            <a:avLst/>
            <a:gdLst/>
            <a:ahLst/>
            <a:rect l="l" t="t" r="r" b="b"/>
            <a:pathLst>
              <a:path w="4094" h="1142">
                <a:moveTo>
                  <a:pt x="14560" y="11212"/>
                </a:moveTo>
                <a:cubicBezTo>
                  <a:pt x="14542" y="11224"/>
                  <a:pt x="14454" y="11301"/>
                  <a:pt x="14511" y="11237"/>
                </a:cubicBezTo>
                <a:cubicBezTo>
                  <a:pt x="14543" y="11201"/>
                  <a:pt x="14604" y="11134"/>
                  <a:pt x="14660" y="11162"/>
                </a:cubicBezTo>
                <a:cubicBezTo>
                  <a:pt x="14770" y="11217"/>
                  <a:pt x="14780" y="11330"/>
                  <a:pt x="14784" y="11435"/>
                </a:cubicBezTo>
                <a:cubicBezTo>
                  <a:pt x="14787" y="11511"/>
                  <a:pt x="14771" y="11588"/>
                  <a:pt x="14684" y="11609"/>
                </a:cubicBezTo>
                <a:cubicBezTo>
                  <a:pt x="14627" y="11623"/>
                  <a:pt x="14538" y="11579"/>
                  <a:pt x="14486" y="11559"/>
                </a:cubicBezTo>
              </a:path>
              <a:path w="4094" h="1142">
                <a:moveTo>
                  <a:pt x="14957" y="11237"/>
                </a:moveTo>
                <a:cubicBezTo>
                  <a:pt x="14957" y="11220"/>
                  <a:pt x="14957" y="11204"/>
                  <a:pt x="14957" y="11187"/>
                </a:cubicBezTo>
                <a:cubicBezTo>
                  <a:pt x="14918" y="11241"/>
                  <a:pt x="14840" y="11279"/>
                  <a:pt x="14858" y="11361"/>
                </a:cubicBezTo>
                <a:cubicBezTo>
                  <a:pt x="14874" y="11433"/>
                  <a:pt x="14927" y="11499"/>
                  <a:pt x="15007" y="11485"/>
                </a:cubicBezTo>
                <a:cubicBezTo>
                  <a:pt x="15074" y="11462"/>
                  <a:pt x="15092" y="11457"/>
                  <a:pt x="15131" y="11435"/>
                </a:cubicBezTo>
              </a:path>
              <a:path w="4094" h="1142">
                <a:moveTo>
                  <a:pt x="15726" y="10889"/>
                </a:moveTo>
                <a:cubicBezTo>
                  <a:pt x="15759" y="10840"/>
                  <a:pt x="15764" y="10851"/>
                  <a:pt x="15776" y="10815"/>
                </a:cubicBezTo>
                <a:cubicBezTo>
                  <a:pt x="15709" y="10832"/>
                  <a:pt x="15658" y="10926"/>
                  <a:pt x="15627" y="10988"/>
                </a:cubicBezTo>
                <a:cubicBezTo>
                  <a:pt x="15554" y="11137"/>
                  <a:pt x="15530" y="11320"/>
                  <a:pt x="15553" y="11485"/>
                </a:cubicBezTo>
                <a:cubicBezTo>
                  <a:pt x="15561" y="11540"/>
                  <a:pt x="15596" y="11677"/>
                  <a:pt x="15652" y="11708"/>
                </a:cubicBezTo>
                <a:cubicBezTo>
                  <a:pt x="15660" y="11708"/>
                  <a:pt x="15669" y="11708"/>
                  <a:pt x="15677" y="11708"/>
                </a:cubicBezTo>
              </a:path>
              <a:path w="4094" h="1142">
                <a:moveTo>
                  <a:pt x="16073" y="11112"/>
                </a:moveTo>
                <a:cubicBezTo>
                  <a:pt x="16054" y="11086"/>
                  <a:pt x="16049" y="11017"/>
                  <a:pt x="16049" y="11063"/>
                </a:cubicBezTo>
                <a:cubicBezTo>
                  <a:pt x="16049" y="11207"/>
                  <a:pt x="16054" y="11345"/>
                  <a:pt x="16073" y="11485"/>
                </a:cubicBezTo>
                <a:cubicBezTo>
                  <a:pt x="16073" y="11501"/>
                  <a:pt x="16073" y="11518"/>
                  <a:pt x="16073" y="11534"/>
                </a:cubicBezTo>
              </a:path>
              <a:path w="4094" h="1142">
                <a:moveTo>
                  <a:pt x="16396" y="10914"/>
                </a:moveTo>
                <a:cubicBezTo>
                  <a:pt x="16404" y="10906"/>
                  <a:pt x="16413" y="10897"/>
                  <a:pt x="16421" y="10889"/>
                </a:cubicBezTo>
                <a:cubicBezTo>
                  <a:pt x="16398" y="10979"/>
                  <a:pt x="16347" y="11059"/>
                  <a:pt x="16321" y="11162"/>
                </a:cubicBezTo>
                <a:cubicBezTo>
                  <a:pt x="16287" y="11297"/>
                  <a:pt x="16283" y="11395"/>
                  <a:pt x="16371" y="11509"/>
                </a:cubicBezTo>
                <a:cubicBezTo>
                  <a:pt x="16410" y="11548"/>
                  <a:pt x="16412" y="11565"/>
                  <a:pt x="16446" y="11559"/>
                </a:cubicBezTo>
                <a:cubicBezTo>
                  <a:pt x="16494" y="11494"/>
                  <a:pt x="16519" y="11426"/>
                  <a:pt x="16495" y="11336"/>
                </a:cubicBezTo>
                <a:cubicBezTo>
                  <a:pt x="16485" y="11297"/>
                  <a:pt x="16440" y="11262"/>
                  <a:pt x="16396" y="11286"/>
                </a:cubicBezTo>
                <a:cubicBezTo>
                  <a:pt x="16388" y="11294"/>
                  <a:pt x="16379" y="11303"/>
                  <a:pt x="16371" y="11311"/>
                </a:cubicBezTo>
              </a:path>
              <a:path w="4094" h="1142">
                <a:moveTo>
                  <a:pt x="16743" y="11311"/>
                </a:moveTo>
                <a:cubicBezTo>
                  <a:pt x="16703" y="11311"/>
                  <a:pt x="16755" y="11271"/>
                  <a:pt x="16793" y="11261"/>
                </a:cubicBezTo>
                <a:cubicBezTo>
                  <a:pt x="16870" y="11241"/>
                  <a:pt x="16934" y="11266"/>
                  <a:pt x="16966" y="11336"/>
                </a:cubicBezTo>
                <a:cubicBezTo>
                  <a:pt x="16992" y="11393"/>
                  <a:pt x="17037" y="11503"/>
                  <a:pt x="16991" y="11559"/>
                </a:cubicBezTo>
                <a:cubicBezTo>
                  <a:pt x="16945" y="11614"/>
                  <a:pt x="16866" y="11580"/>
                  <a:pt x="16818" y="11559"/>
                </a:cubicBezTo>
              </a:path>
              <a:path w="4094" h="1142">
                <a:moveTo>
                  <a:pt x="17090" y="11286"/>
                </a:moveTo>
                <a:cubicBezTo>
                  <a:pt x="17062" y="11337"/>
                  <a:pt x="16988" y="11427"/>
                  <a:pt x="16991" y="11485"/>
                </a:cubicBezTo>
                <a:cubicBezTo>
                  <a:pt x="16995" y="11556"/>
                  <a:pt x="17086" y="11580"/>
                  <a:pt x="17140" y="11559"/>
                </a:cubicBezTo>
                <a:cubicBezTo>
                  <a:pt x="17170" y="11529"/>
                  <a:pt x="17184" y="11518"/>
                  <a:pt x="17214" y="11509"/>
                </a:cubicBezTo>
              </a:path>
              <a:path w="4094" h="1142">
                <a:moveTo>
                  <a:pt x="17338" y="11038"/>
                </a:moveTo>
                <a:cubicBezTo>
                  <a:pt x="17330" y="11030"/>
                  <a:pt x="17322" y="11021"/>
                  <a:pt x="17314" y="11013"/>
                </a:cubicBezTo>
                <a:cubicBezTo>
                  <a:pt x="17355" y="11013"/>
                  <a:pt x="17397" y="11013"/>
                  <a:pt x="17438" y="11013"/>
                </a:cubicBezTo>
                <a:cubicBezTo>
                  <a:pt x="17438" y="11067"/>
                  <a:pt x="17425" y="11096"/>
                  <a:pt x="17388" y="11137"/>
                </a:cubicBezTo>
                <a:cubicBezTo>
                  <a:pt x="17359" y="11169"/>
                  <a:pt x="17363" y="11171"/>
                  <a:pt x="17363" y="11212"/>
                </a:cubicBezTo>
                <a:cubicBezTo>
                  <a:pt x="17441" y="11212"/>
                  <a:pt x="17491" y="11205"/>
                  <a:pt x="17562" y="11187"/>
                </a:cubicBezTo>
                <a:cubicBezTo>
                  <a:pt x="17570" y="11187"/>
                  <a:pt x="17579" y="11187"/>
                  <a:pt x="17587" y="11187"/>
                </a:cubicBezTo>
              </a:path>
              <a:path w="4094" h="1142">
                <a:moveTo>
                  <a:pt x="17587" y="10790"/>
                </a:moveTo>
                <a:cubicBezTo>
                  <a:pt x="17704" y="10758"/>
                  <a:pt x="17763" y="10749"/>
                  <a:pt x="17835" y="10864"/>
                </a:cubicBezTo>
                <a:cubicBezTo>
                  <a:pt x="17930" y="11015"/>
                  <a:pt x="17959" y="11287"/>
                  <a:pt x="17934" y="11460"/>
                </a:cubicBezTo>
                <a:cubicBezTo>
                  <a:pt x="17914" y="11597"/>
                  <a:pt x="17851" y="11790"/>
                  <a:pt x="17735" y="11881"/>
                </a:cubicBezTo>
                <a:cubicBezTo>
                  <a:pt x="17719" y="11889"/>
                  <a:pt x="17702" y="11898"/>
                  <a:pt x="17686" y="11906"/>
                </a:cubicBezTo>
              </a:path>
              <a:path w="4094" h="1142">
                <a:moveTo>
                  <a:pt x="17165" y="11088"/>
                </a:moveTo>
                <a:cubicBezTo>
                  <a:pt x="17132" y="11088"/>
                  <a:pt x="17099" y="11088"/>
                  <a:pt x="17066" y="11088"/>
                </a:cubicBezTo>
              </a:path>
              <a:path w="4094" h="1142">
                <a:moveTo>
                  <a:pt x="13940" y="10939"/>
                </a:moveTo>
                <a:cubicBezTo>
                  <a:pt x="13907" y="10939"/>
                  <a:pt x="13874" y="10939"/>
                  <a:pt x="13841" y="10939"/>
                </a:cubicBezTo>
                <a:cubicBezTo>
                  <a:pt x="13890" y="10903"/>
                  <a:pt x="13953" y="10885"/>
                  <a:pt x="14015" y="10864"/>
                </a:cubicBezTo>
                <a:cubicBezTo>
                  <a:pt x="14083" y="10841"/>
                  <a:pt x="14197" y="10775"/>
                  <a:pt x="14263" y="10840"/>
                </a:cubicBezTo>
                <a:cubicBezTo>
                  <a:pt x="14319" y="10895"/>
                  <a:pt x="14277" y="10988"/>
                  <a:pt x="14238" y="11038"/>
                </a:cubicBezTo>
                <a:cubicBezTo>
                  <a:pt x="14185" y="11105"/>
                  <a:pt x="14089" y="11148"/>
                  <a:pt x="14015" y="11187"/>
                </a:cubicBezTo>
                <a:cubicBezTo>
                  <a:pt x="13956" y="11218"/>
                  <a:pt x="13965" y="11206"/>
                  <a:pt x="13965" y="11261"/>
                </a:cubicBezTo>
                <a:cubicBezTo>
                  <a:pt x="14025" y="11309"/>
                  <a:pt x="14072" y="11313"/>
                  <a:pt x="14139" y="11336"/>
                </a:cubicBezTo>
                <a:cubicBezTo>
                  <a:pt x="14180" y="11350"/>
                  <a:pt x="14218" y="11417"/>
                  <a:pt x="14188" y="11460"/>
                </a:cubicBezTo>
                <a:cubicBezTo>
                  <a:pt x="14143" y="11524"/>
                  <a:pt x="14064" y="11556"/>
                  <a:pt x="13990" y="11559"/>
                </a:cubicBezTo>
                <a:cubicBezTo>
                  <a:pt x="13915" y="11559"/>
                  <a:pt x="13891" y="11559"/>
                  <a:pt x="13841" y="11559"/>
                </a:cubicBezTo>
              </a:path>
              <a:path w="4094" h="1142">
                <a:moveTo>
                  <a:pt x="15329" y="11013"/>
                </a:moveTo>
                <a:cubicBezTo>
                  <a:pt x="15306" y="11044"/>
                  <a:pt x="15284" y="11073"/>
                  <a:pt x="15280" y="11112"/>
                </a:cubicBezTo>
                <a:cubicBezTo>
                  <a:pt x="15276" y="11153"/>
                  <a:pt x="15281" y="11155"/>
                  <a:pt x="15304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45200" y="4098960"/>
            <a:ext cx="196920" cy="17280"/>
          </a:xfrm>
          <a:custGeom>
            <a:avLst/>
            <a:gdLst/>
            <a:ahLst/>
            <a:rect l="l" t="t" r="r" b="b"/>
            <a:pathLst>
              <a:path w="547" h="51">
                <a:moveTo>
                  <a:pt x="20092" y="11385"/>
                </a:moveTo>
                <a:cubicBezTo>
                  <a:pt x="20159" y="11385"/>
                  <a:pt x="20053" y="11385"/>
                  <a:pt x="20042" y="11385"/>
                </a:cubicBezTo>
                <a:cubicBezTo>
                  <a:pt x="19968" y="11385"/>
                  <a:pt x="19897" y="11410"/>
                  <a:pt x="19819" y="11410"/>
                </a:cubicBezTo>
                <a:cubicBezTo>
                  <a:pt x="19746" y="11410"/>
                  <a:pt x="19688" y="11428"/>
                  <a:pt x="19621" y="11435"/>
                </a:cubicBezTo>
                <a:cubicBezTo>
                  <a:pt x="19596" y="11435"/>
                  <a:pt x="19588" y="11435"/>
                  <a:pt x="19571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05800" y="3919680"/>
            <a:ext cx="804960" cy="322200"/>
          </a:xfrm>
          <a:custGeom>
            <a:avLst/>
            <a:gdLst/>
            <a:ahLst/>
            <a:rect l="l" t="t" r="r" b="b"/>
            <a:pathLst>
              <a:path w="2234" h="894">
                <a:moveTo>
                  <a:pt x="21555" y="11013"/>
                </a:moveTo>
                <a:cubicBezTo>
                  <a:pt x="21593" y="10975"/>
                  <a:pt x="21605" y="10967"/>
                  <a:pt x="21605" y="10914"/>
                </a:cubicBezTo>
                <a:cubicBezTo>
                  <a:pt x="21605" y="10906"/>
                  <a:pt x="21605" y="10897"/>
                  <a:pt x="21605" y="10889"/>
                </a:cubicBezTo>
                <a:cubicBezTo>
                  <a:pt x="21557" y="10937"/>
                  <a:pt x="21523" y="10987"/>
                  <a:pt x="21481" y="11038"/>
                </a:cubicBezTo>
                <a:cubicBezTo>
                  <a:pt x="21411" y="11123"/>
                  <a:pt x="21406" y="11149"/>
                  <a:pt x="21406" y="11261"/>
                </a:cubicBezTo>
                <a:cubicBezTo>
                  <a:pt x="21406" y="11384"/>
                  <a:pt x="21428" y="11466"/>
                  <a:pt x="21506" y="11559"/>
                </a:cubicBezTo>
                <a:cubicBezTo>
                  <a:pt x="21559" y="11622"/>
                  <a:pt x="21610" y="11569"/>
                  <a:pt x="21630" y="11509"/>
                </a:cubicBezTo>
                <a:cubicBezTo>
                  <a:pt x="21651" y="11448"/>
                  <a:pt x="21615" y="11399"/>
                  <a:pt x="21555" y="11385"/>
                </a:cubicBezTo>
                <a:cubicBezTo>
                  <a:pt x="21525" y="11378"/>
                  <a:pt x="21462" y="11385"/>
                  <a:pt x="21431" y="11385"/>
                </a:cubicBezTo>
              </a:path>
              <a:path w="2234" h="894">
                <a:moveTo>
                  <a:pt x="21878" y="11088"/>
                </a:moveTo>
                <a:cubicBezTo>
                  <a:pt x="21900" y="11066"/>
                  <a:pt x="21905" y="11057"/>
                  <a:pt x="21927" y="11063"/>
                </a:cubicBezTo>
                <a:cubicBezTo>
                  <a:pt x="21898" y="11113"/>
                  <a:pt x="21881" y="11174"/>
                  <a:pt x="21878" y="11237"/>
                </a:cubicBezTo>
                <a:cubicBezTo>
                  <a:pt x="21876" y="11284"/>
                  <a:pt x="21859" y="11396"/>
                  <a:pt x="21903" y="11435"/>
                </a:cubicBezTo>
                <a:cubicBezTo>
                  <a:pt x="21939" y="11467"/>
                  <a:pt x="22028" y="11460"/>
                  <a:pt x="22076" y="11460"/>
                </a:cubicBezTo>
                <a:cubicBezTo>
                  <a:pt x="22126" y="11460"/>
                  <a:pt x="22293" y="11437"/>
                  <a:pt x="22299" y="11485"/>
                </a:cubicBezTo>
                <a:cubicBezTo>
                  <a:pt x="22299" y="11493"/>
                  <a:pt x="22299" y="11501"/>
                  <a:pt x="22299" y="11509"/>
                </a:cubicBezTo>
              </a:path>
              <a:path w="2234" h="894">
                <a:moveTo>
                  <a:pt x="22126" y="11336"/>
                </a:moveTo>
                <a:cubicBezTo>
                  <a:pt x="22118" y="11328"/>
                  <a:pt x="22109" y="11319"/>
                  <a:pt x="22101" y="11311"/>
                </a:cubicBezTo>
                <a:cubicBezTo>
                  <a:pt x="22101" y="11367"/>
                  <a:pt x="22083" y="11409"/>
                  <a:pt x="22076" y="11460"/>
                </a:cubicBezTo>
                <a:cubicBezTo>
                  <a:pt x="22066" y="11539"/>
                  <a:pt x="22076" y="11628"/>
                  <a:pt x="22076" y="11708"/>
                </a:cubicBezTo>
              </a:path>
              <a:path w="2234" h="894">
                <a:moveTo>
                  <a:pt x="22399" y="11435"/>
                </a:moveTo>
                <a:cubicBezTo>
                  <a:pt x="22399" y="11410"/>
                  <a:pt x="22399" y="11402"/>
                  <a:pt x="22399" y="11385"/>
                </a:cubicBezTo>
                <a:cubicBezTo>
                  <a:pt x="22462" y="11385"/>
                  <a:pt x="22490" y="11383"/>
                  <a:pt x="22547" y="11410"/>
                </a:cubicBezTo>
                <a:cubicBezTo>
                  <a:pt x="22641" y="11455"/>
                  <a:pt x="22622" y="11542"/>
                  <a:pt x="22622" y="11633"/>
                </a:cubicBezTo>
                <a:cubicBezTo>
                  <a:pt x="22622" y="11689"/>
                  <a:pt x="22612" y="11752"/>
                  <a:pt x="22547" y="11757"/>
                </a:cubicBezTo>
                <a:cubicBezTo>
                  <a:pt x="22489" y="11761"/>
                  <a:pt x="22486" y="11745"/>
                  <a:pt x="22448" y="11708"/>
                </a:cubicBezTo>
              </a:path>
              <a:path w="2234" h="894">
                <a:moveTo>
                  <a:pt x="22721" y="11435"/>
                </a:moveTo>
                <a:cubicBezTo>
                  <a:pt x="22762" y="11415"/>
                  <a:pt x="22768" y="11406"/>
                  <a:pt x="22796" y="11410"/>
                </a:cubicBezTo>
                <a:cubicBezTo>
                  <a:pt x="22737" y="11469"/>
                  <a:pt x="22707" y="11508"/>
                  <a:pt x="22671" y="11584"/>
                </a:cubicBezTo>
                <a:cubicBezTo>
                  <a:pt x="22647" y="11636"/>
                  <a:pt x="22615" y="11740"/>
                  <a:pt x="22671" y="11782"/>
                </a:cubicBezTo>
                <a:cubicBezTo>
                  <a:pt x="22709" y="11811"/>
                  <a:pt x="22792" y="11754"/>
                  <a:pt x="22820" y="11733"/>
                </a:cubicBezTo>
                <a:cubicBezTo>
                  <a:pt x="22828" y="11725"/>
                  <a:pt x="22837" y="11716"/>
                  <a:pt x="22845" y="11708"/>
                </a:cubicBezTo>
              </a:path>
              <a:path w="2234" h="894">
                <a:moveTo>
                  <a:pt x="23068" y="11361"/>
                </a:moveTo>
                <a:cubicBezTo>
                  <a:pt x="23060" y="11353"/>
                  <a:pt x="23052" y="11344"/>
                  <a:pt x="23044" y="11336"/>
                </a:cubicBezTo>
                <a:cubicBezTo>
                  <a:pt x="23099" y="11378"/>
                  <a:pt x="23090" y="11354"/>
                  <a:pt x="23143" y="11336"/>
                </a:cubicBezTo>
                <a:cubicBezTo>
                  <a:pt x="23162" y="11330"/>
                  <a:pt x="23197" y="11336"/>
                  <a:pt x="23217" y="11336"/>
                </a:cubicBezTo>
              </a:path>
              <a:path w="2234" h="894">
                <a:moveTo>
                  <a:pt x="23416" y="11162"/>
                </a:moveTo>
                <a:cubicBezTo>
                  <a:pt x="23408" y="11154"/>
                  <a:pt x="23399" y="11145"/>
                  <a:pt x="23391" y="11137"/>
                </a:cubicBezTo>
                <a:cubicBezTo>
                  <a:pt x="23438" y="11121"/>
                  <a:pt x="23413" y="11112"/>
                  <a:pt x="23490" y="11112"/>
                </a:cubicBezTo>
                <a:cubicBezTo>
                  <a:pt x="23528" y="11112"/>
                  <a:pt x="23593" y="11094"/>
                  <a:pt x="23614" y="11137"/>
                </a:cubicBezTo>
                <a:cubicBezTo>
                  <a:pt x="23634" y="11177"/>
                  <a:pt x="23598" y="11209"/>
                  <a:pt x="23589" y="11237"/>
                </a:cubicBezTo>
                <a:cubicBezTo>
                  <a:pt x="23582" y="11258"/>
                  <a:pt x="23544" y="11274"/>
                  <a:pt x="23564" y="11311"/>
                </a:cubicBezTo>
                <a:cubicBezTo>
                  <a:pt x="23585" y="11348"/>
                  <a:pt x="23626" y="11370"/>
                  <a:pt x="23639" y="11410"/>
                </a:cubicBezTo>
                <a:cubicBezTo>
                  <a:pt x="23649" y="11439"/>
                  <a:pt x="23644" y="11495"/>
                  <a:pt x="23614" y="11509"/>
                </a:cubicBezTo>
                <a:cubicBezTo>
                  <a:pt x="23606" y="11509"/>
                  <a:pt x="23597" y="11509"/>
                  <a:pt x="23589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57200" y="4848120"/>
            <a:ext cx="98640" cy="730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3969" y="13519"/>
                </a:moveTo>
                <a:cubicBezTo>
                  <a:pt x="4010" y="13519"/>
                  <a:pt x="4018" y="13519"/>
                  <a:pt x="4043" y="13519"/>
                </a:cubicBezTo>
                <a:cubicBezTo>
                  <a:pt x="4043" y="13455"/>
                  <a:pt x="4035" y="13469"/>
                  <a:pt x="3969" y="13469"/>
                </a:cubicBezTo>
                <a:cubicBezTo>
                  <a:pt x="3903" y="13469"/>
                  <a:pt x="3836" y="13469"/>
                  <a:pt x="3770" y="13469"/>
                </a:cubicBezTo>
              </a:path>
              <a:path w="274" h="199">
                <a:moveTo>
                  <a:pt x="4043" y="13643"/>
                </a:moveTo>
                <a:cubicBezTo>
                  <a:pt x="3991" y="13643"/>
                  <a:pt x="3962" y="13642"/>
                  <a:pt x="3919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76240" y="4687920"/>
            <a:ext cx="385920" cy="330120"/>
          </a:xfrm>
          <a:custGeom>
            <a:avLst/>
            <a:gdLst/>
            <a:ahLst/>
            <a:rect l="l" t="t" r="r" b="b"/>
            <a:pathLst>
              <a:path w="1068" h="919">
                <a:moveTo>
                  <a:pt x="4936" y="13593"/>
                </a:moveTo>
                <a:cubicBezTo>
                  <a:pt x="4944" y="13593"/>
                  <a:pt x="4953" y="13593"/>
                  <a:pt x="4961" y="13593"/>
                </a:cubicBezTo>
                <a:cubicBezTo>
                  <a:pt x="4942" y="13537"/>
                  <a:pt x="4911" y="13612"/>
                  <a:pt x="4961" y="13568"/>
                </a:cubicBezTo>
                <a:cubicBezTo>
                  <a:pt x="5022" y="13515"/>
                  <a:pt x="5101" y="13482"/>
                  <a:pt x="5184" y="13494"/>
                </a:cubicBezTo>
                <a:cubicBezTo>
                  <a:pt x="5303" y="13512"/>
                  <a:pt x="5350" y="13641"/>
                  <a:pt x="5358" y="13742"/>
                </a:cubicBezTo>
                <a:cubicBezTo>
                  <a:pt x="5363" y="13810"/>
                  <a:pt x="5310" y="13923"/>
                  <a:pt x="5234" y="13940"/>
                </a:cubicBezTo>
                <a:cubicBezTo>
                  <a:pt x="5176" y="13953"/>
                  <a:pt x="5097" y="13940"/>
                  <a:pt x="5035" y="13940"/>
                </a:cubicBezTo>
              </a:path>
              <a:path w="1068" h="919">
                <a:moveTo>
                  <a:pt x="5234" y="13742"/>
                </a:moveTo>
                <a:cubicBezTo>
                  <a:pt x="5305" y="13671"/>
                  <a:pt x="5383" y="13607"/>
                  <a:pt x="5432" y="13519"/>
                </a:cubicBezTo>
                <a:cubicBezTo>
                  <a:pt x="5457" y="13474"/>
                  <a:pt x="5457" y="13465"/>
                  <a:pt x="5457" y="13419"/>
                </a:cubicBezTo>
                <a:cubicBezTo>
                  <a:pt x="5401" y="13489"/>
                  <a:pt x="5370" y="13577"/>
                  <a:pt x="5358" y="13667"/>
                </a:cubicBezTo>
                <a:cubicBezTo>
                  <a:pt x="5344" y="13772"/>
                  <a:pt x="5352" y="13867"/>
                  <a:pt x="5457" y="13915"/>
                </a:cubicBezTo>
                <a:cubicBezTo>
                  <a:pt x="5490" y="13915"/>
                  <a:pt x="5506" y="13915"/>
                  <a:pt x="5531" y="13915"/>
                </a:cubicBezTo>
              </a:path>
              <a:path w="1068" h="919">
                <a:moveTo>
                  <a:pt x="5730" y="13196"/>
                </a:moveTo>
                <a:cubicBezTo>
                  <a:pt x="5740" y="13157"/>
                  <a:pt x="5767" y="13133"/>
                  <a:pt x="5779" y="13097"/>
                </a:cubicBezTo>
                <a:cubicBezTo>
                  <a:pt x="5796" y="13044"/>
                  <a:pt x="5849" y="13027"/>
                  <a:pt x="5904" y="13022"/>
                </a:cubicBezTo>
                <a:cubicBezTo>
                  <a:pt x="5955" y="13018"/>
                  <a:pt x="5973" y="13083"/>
                  <a:pt x="5953" y="13122"/>
                </a:cubicBezTo>
                <a:cubicBezTo>
                  <a:pt x="5933" y="13161"/>
                  <a:pt x="5872" y="13181"/>
                  <a:pt x="5854" y="13221"/>
                </a:cubicBezTo>
                <a:cubicBezTo>
                  <a:pt x="5832" y="13271"/>
                  <a:pt x="5924" y="13292"/>
                  <a:pt x="5953" y="13295"/>
                </a:cubicBezTo>
                <a:cubicBezTo>
                  <a:pt x="5993" y="13299"/>
                  <a:pt x="6035" y="13341"/>
                  <a:pt x="5978" y="13370"/>
                </a:cubicBezTo>
                <a:cubicBezTo>
                  <a:pt x="5970" y="13370"/>
                  <a:pt x="5961" y="13370"/>
                  <a:pt x="595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8200" y="4973760"/>
            <a:ext cx="15084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7243" y="13866"/>
                </a:moveTo>
                <a:cubicBezTo>
                  <a:pt x="7243" y="13891"/>
                  <a:pt x="7243" y="13899"/>
                  <a:pt x="7243" y="13915"/>
                </a:cubicBezTo>
                <a:cubicBezTo>
                  <a:pt x="7279" y="13906"/>
                  <a:pt x="7310" y="13873"/>
                  <a:pt x="7342" y="13866"/>
                </a:cubicBezTo>
                <a:cubicBezTo>
                  <a:pt x="7405" y="13853"/>
                  <a:pt x="7447" y="13820"/>
                  <a:pt x="7516" y="13816"/>
                </a:cubicBezTo>
                <a:cubicBezTo>
                  <a:pt x="7565" y="13813"/>
                  <a:pt x="7616" y="13816"/>
                  <a:pt x="7665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63880" y="4875120"/>
            <a:ext cx="936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8235" y="13593"/>
                </a:moveTo>
                <a:cubicBezTo>
                  <a:pt x="8235" y="13568"/>
                  <a:pt x="8235" y="13560"/>
                  <a:pt x="8235" y="13543"/>
                </a:cubicBezTo>
                <a:cubicBezTo>
                  <a:pt x="8275" y="13556"/>
                  <a:pt x="8260" y="13592"/>
                  <a:pt x="8260" y="13643"/>
                </a:cubicBezTo>
                <a:cubicBezTo>
                  <a:pt x="8260" y="13825"/>
                  <a:pt x="8260" y="14006"/>
                  <a:pt x="8260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6160" y="484020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8706" y="13618"/>
                </a:moveTo>
                <a:cubicBezTo>
                  <a:pt x="8682" y="13618"/>
                  <a:pt x="8673" y="13618"/>
                  <a:pt x="8657" y="13618"/>
                </a:cubicBezTo>
                <a:cubicBezTo>
                  <a:pt x="8657" y="13575"/>
                  <a:pt x="8643" y="13522"/>
                  <a:pt x="8682" y="13494"/>
                </a:cubicBezTo>
                <a:cubicBezTo>
                  <a:pt x="8727" y="13463"/>
                  <a:pt x="8754" y="13444"/>
                  <a:pt x="8806" y="13444"/>
                </a:cubicBezTo>
                <a:cubicBezTo>
                  <a:pt x="8879" y="13444"/>
                  <a:pt x="8892" y="13455"/>
                  <a:pt x="8930" y="13519"/>
                </a:cubicBezTo>
                <a:cubicBezTo>
                  <a:pt x="8972" y="13590"/>
                  <a:pt x="8995" y="13684"/>
                  <a:pt x="8979" y="13767"/>
                </a:cubicBezTo>
                <a:cubicBezTo>
                  <a:pt x="8960" y="13863"/>
                  <a:pt x="8881" y="13914"/>
                  <a:pt x="8830" y="13990"/>
                </a:cubicBezTo>
                <a:cubicBezTo>
                  <a:pt x="8791" y="14049"/>
                  <a:pt x="8753" y="14110"/>
                  <a:pt x="8706" y="14163"/>
                </a:cubicBezTo>
                <a:cubicBezTo>
                  <a:pt x="8670" y="14203"/>
                  <a:pt x="8657" y="14209"/>
                  <a:pt x="8657" y="14263"/>
                </a:cubicBezTo>
                <a:cubicBezTo>
                  <a:pt x="8698" y="14221"/>
                  <a:pt x="8732" y="14208"/>
                  <a:pt x="8781" y="14188"/>
                </a:cubicBezTo>
                <a:cubicBezTo>
                  <a:pt x="8854" y="14158"/>
                  <a:pt x="8927" y="14120"/>
                  <a:pt x="9004" y="14114"/>
                </a:cubicBezTo>
                <a:cubicBezTo>
                  <a:pt x="9029" y="14112"/>
                  <a:pt x="9054" y="14114"/>
                  <a:pt x="9079" y="14114"/>
                </a:cubicBezTo>
              </a:path>
              <a:path w="1291" h="820">
                <a:moveTo>
                  <a:pt x="9351" y="13915"/>
                </a:moveTo>
                <a:cubicBezTo>
                  <a:pt x="9318" y="13899"/>
                  <a:pt x="9349" y="13879"/>
                  <a:pt x="9376" y="13866"/>
                </a:cubicBezTo>
                <a:cubicBezTo>
                  <a:pt x="9449" y="13832"/>
                  <a:pt x="9468" y="13790"/>
                  <a:pt x="9550" y="13841"/>
                </a:cubicBezTo>
                <a:cubicBezTo>
                  <a:pt x="9614" y="13880"/>
                  <a:pt x="9621" y="13976"/>
                  <a:pt x="9624" y="14039"/>
                </a:cubicBezTo>
                <a:cubicBezTo>
                  <a:pt x="9626" y="14085"/>
                  <a:pt x="9636" y="14170"/>
                  <a:pt x="9575" y="14188"/>
                </a:cubicBezTo>
                <a:cubicBezTo>
                  <a:pt x="9547" y="14196"/>
                  <a:pt x="9397" y="14224"/>
                  <a:pt x="9376" y="14213"/>
                </a:cubicBezTo>
                <a:cubicBezTo>
                  <a:pt x="9372" y="14211"/>
                  <a:pt x="9376" y="14146"/>
                  <a:pt x="9376" y="14139"/>
                </a:cubicBezTo>
              </a:path>
              <a:path w="1291" h="820">
                <a:moveTo>
                  <a:pt x="9723" y="13841"/>
                </a:moveTo>
                <a:cubicBezTo>
                  <a:pt x="9784" y="13798"/>
                  <a:pt x="9808" y="13801"/>
                  <a:pt x="9823" y="13742"/>
                </a:cubicBezTo>
                <a:cubicBezTo>
                  <a:pt x="9743" y="13782"/>
                  <a:pt x="9674" y="13819"/>
                  <a:pt x="9649" y="13915"/>
                </a:cubicBezTo>
                <a:cubicBezTo>
                  <a:pt x="9628" y="13997"/>
                  <a:pt x="9654" y="14067"/>
                  <a:pt x="9723" y="14114"/>
                </a:cubicBezTo>
                <a:cubicBezTo>
                  <a:pt x="9806" y="14169"/>
                  <a:pt x="9870" y="14127"/>
                  <a:pt x="9947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89240" y="4973760"/>
            <a:ext cx="15264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11757" y="13990"/>
                </a:moveTo>
                <a:cubicBezTo>
                  <a:pt x="11814" y="13990"/>
                  <a:pt x="11718" y="13967"/>
                  <a:pt x="11708" y="13965"/>
                </a:cubicBezTo>
                <a:cubicBezTo>
                  <a:pt x="11645" y="13951"/>
                  <a:pt x="11595" y="13987"/>
                  <a:pt x="11534" y="13990"/>
                </a:cubicBezTo>
                <a:cubicBezTo>
                  <a:pt x="11480" y="13993"/>
                  <a:pt x="11375" y="14010"/>
                  <a:pt x="11361" y="13965"/>
                </a:cubicBezTo>
              </a:path>
              <a:path w="422" h="398">
                <a:moveTo>
                  <a:pt x="11534" y="13816"/>
                </a:moveTo>
                <a:cubicBezTo>
                  <a:pt x="11573" y="13868"/>
                  <a:pt x="11559" y="13922"/>
                  <a:pt x="11559" y="13990"/>
                </a:cubicBezTo>
                <a:cubicBezTo>
                  <a:pt x="11559" y="14059"/>
                  <a:pt x="11584" y="14118"/>
                  <a:pt x="11584" y="14188"/>
                </a:cubicBezTo>
                <a:cubicBezTo>
                  <a:pt x="11584" y="14196"/>
                  <a:pt x="11584" y="14205"/>
                  <a:pt x="11584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8000" y="4875120"/>
            <a:ext cx="982800" cy="250920"/>
          </a:xfrm>
          <a:custGeom>
            <a:avLst/>
            <a:gdLst/>
            <a:ahLst/>
            <a:rect l="l" t="t" r="r" b="b"/>
            <a:pathLst>
              <a:path w="2730" h="696">
                <a:moveTo>
                  <a:pt x="12576" y="13618"/>
                </a:moveTo>
                <a:cubicBezTo>
                  <a:pt x="12598" y="13574"/>
                  <a:pt x="12601" y="13562"/>
                  <a:pt x="12626" y="13543"/>
                </a:cubicBezTo>
                <a:cubicBezTo>
                  <a:pt x="12626" y="13604"/>
                  <a:pt x="12598" y="13636"/>
                  <a:pt x="12576" y="13692"/>
                </a:cubicBezTo>
                <a:cubicBezTo>
                  <a:pt x="12546" y="13769"/>
                  <a:pt x="12551" y="13835"/>
                  <a:pt x="12551" y="13915"/>
                </a:cubicBezTo>
                <a:cubicBezTo>
                  <a:pt x="12551" y="13956"/>
                  <a:pt x="12587" y="13988"/>
                  <a:pt x="12626" y="13990"/>
                </a:cubicBezTo>
                <a:cubicBezTo>
                  <a:pt x="12815" y="14000"/>
                  <a:pt x="13007" y="13990"/>
                  <a:pt x="13196" y="13990"/>
                </a:cubicBezTo>
              </a:path>
              <a:path w="2730" h="696">
                <a:moveTo>
                  <a:pt x="12898" y="13816"/>
                </a:moveTo>
                <a:cubicBezTo>
                  <a:pt x="12864" y="13863"/>
                  <a:pt x="12874" y="13904"/>
                  <a:pt x="12874" y="13965"/>
                </a:cubicBezTo>
                <a:cubicBezTo>
                  <a:pt x="12874" y="14056"/>
                  <a:pt x="12874" y="14147"/>
                  <a:pt x="12874" y="14238"/>
                </a:cubicBezTo>
              </a:path>
              <a:path w="2730" h="696">
                <a:moveTo>
                  <a:pt x="13667" y="13692"/>
                </a:moveTo>
                <a:cubicBezTo>
                  <a:pt x="13711" y="13670"/>
                  <a:pt x="13722" y="13667"/>
                  <a:pt x="13742" y="13643"/>
                </a:cubicBezTo>
                <a:cubicBezTo>
                  <a:pt x="13742" y="13600"/>
                  <a:pt x="13737" y="13583"/>
                  <a:pt x="13692" y="13568"/>
                </a:cubicBezTo>
                <a:cubicBezTo>
                  <a:pt x="13647" y="13553"/>
                  <a:pt x="13580" y="13570"/>
                  <a:pt x="13543" y="13593"/>
                </a:cubicBezTo>
                <a:cubicBezTo>
                  <a:pt x="13509" y="13614"/>
                  <a:pt x="13457" y="13704"/>
                  <a:pt x="13444" y="13742"/>
                </a:cubicBezTo>
                <a:cubicBezTo>
                  <a:pt x="13430" y="13783"/>
                  <a:pt x="13472" y="13837"/>
                  <a:pt x="13494" y="13866"/>
                </a:cubicBezTo>
                <a:cubicBezTo>
                  <a:pt x="13528" y="13912"/>
                  <a:pt x="13589" y="13948"/>
                  <a:pt x="13643" y="13965"/>
                </a:cubicBezTo>
                <a:cubicBezTo>
                  <a:pt x="13658" y="13970"/>
                  <a:pt x="13758" y="14038"/>
                  <a:pt x="13767" y="14064"/>
                </a:cubicBezTo>
                <a:cubicBezTo>
                  <a:pt x="13786" y="14117"/>
                  <a:pt x="13764" y="14146"/>
                  <a:pt x="13742" y="14163"/>
                </a:cubicBezTo>
                <a:cubicBezTo>
                  <a:pt x="13689" y="14203"/>
                  <a:pt x="13656" y="14190"/>
                  <a:pt x="13593" y="14163"/>
                </a:cubicBezTo>
                <a:cubicBezTo>
                  <a:pt x="13531" y="14136"/>
                  <a:pt x="13519" y="14126"/>
                  <a:pt x="13519" y="14064"/>
                </a:cubicBezTo>
                <a:cubicBezTo>
                  <a:pt x="13519" y="13986"/>
                  <a:pt x="13606" y="13914"/>
                  <a:pt x="13667" y="13866"/>
                </a:cubicBezTo>
                <a:cubicBezTo>
                  <a:pt x="13736" y="13812"/>
                  <a:pt x="13829" y="13744"/>
                  <a:pt x="13915" y="13717"/>
                </a:cubicBezTo>
                <a:cubicBezTo>
                  <a:pt x="13923" y="13717"/>
                  <a:pt x="13932" y="13717"/>
                  <a:pt x="13940" y="13717"/>
                </a:cubicBezTo>
              </a:path>
              <a:path w="2730" h="696">
                <a:moveTo>
                  <a:pt x="14114" y="13990"/>
                </a:moveTo>
                <a:cubicBezTo>
                  <a:pt x="14089" y="13990"/>
                  <a:pt x="14081" y="13990"/>
                  <a:pt x="14064" y="13990"/>
                </a:cubicBezTo>
                <a:cubicBezTo>
                  <a:pt x="14074" y="13950"/>
                  <a:pt x="14092" y="13918"/>
                  <a:pt x="14139" y="13915"/>
                </a:cubicBezTo>
                <a:cubicBezTo>
                  <a:pt x="14207" y="13910"/>
                  <a:pt x="14217" y="13919"/>
                  <a:pt x="14263" y="13965"/>
                </a:cubicBezTo>
                <a:cubicBezTo>
                  <a:pt x="14306" y="14008"/>
                  <a:pt x="14288" y="14080"/>
                  <a:pt x="14288" y="14139"/>
                </a:cubicBezTo>
                <a:cubicBezTo>
                  <a:pt x="14288" y="14204"/>
                  <a:pt x="14253" y="14208"/>
                  <a:pt x="14188" y="14213"/>
                </a:cubicBezTo>
                <a:cubicBezTo>
                  <a:pt x="14123" y="14218"/>
                  <a:pt x="14108" y="14207"/>
                  <a:pt x="14064" y="14163"/>
                </a:cubicBezTo>
              </a:path>
              <a:path w="2730" h="696">
                <a:moveTo>
                  <a:pt x="14436" y="13940"/>
                </a:moveTo>
                <a:cubicBezTo>
                  <a:pt x="14474" y="13902"/>
                  <a:pt x="14397" y="13949"/>
                  <a:pt x="14362" y="13990"/>
                </a:cubicBezTo>
                <a:cubicBezTo>
                  <a:pt x="14331" y="14026"/>
                  <a:pt x="14320" y="14143"/>
                  <a:pt x="14337" y="14188"/>
                </a:cubicBezTo>
                <a:cubicBezTo>
                  <a:pt x="14351" y="14224"/>
                  <a:pt x="14454" y="14222"/>
                  <a:pt x="14486" y="14213"/>
                </a:cubicBezTo>
                <a:cubicBezTo>
                  <a:pt x="14503" y="14205"/>
                  <a:pt x="14519" y="14196"/>
                  <a:pt x="14536" y="14188"/>
                </a:cubicBezTo>
              </a:path>
              <a:path w="2730" h="696">
                <a:moveTo>
                  <a:pt x="14759" y="13816"/>
                </a:moveTo>
                <a:cubicBezTo>
                  <a:pt x="14751" y="13808"/>
                  <a:pt x="14742" y="13799"/>
                  <a:pt x="14734" y="13791"/>
                </a:cubicBezTo>
                <a:cubicBezTo>
                  <a:pt x="14747" y="13829"/>
                  <a:pt x="14763" y="13816"/>
                  <a:pt x="14808" y="13816"/>
                </a:cubicBezTo>
                <a:cubicBezTo>
                  <a:pt x="14869" y="13816"/>
                  <a:pt x="14911" y="13826"/>
                  <a:pt x="14957" y="13791"/>
                </a:cubicBezTo>
              </a:path>
              <a:path w="2730" h="696">
                <a:moveTo>
                  <a:pt x="15255" y="13643"/>
                </a:moveTo>
                <a:cubicBezTo>
                  <a:pt x="15263" y="13635"/>
                  <a:pt x="15272" y="13626"/>
                  <a:pt x="15280" y="13618"/>
                </a:cubicBezTo>
                <a:cubicBezTo>
                  <a:pt x="15280" y="13681"/>
                  <a:pt x="15258" y="13726"/>
                  <a:pt x="15255" y="13791"/>
                </a:cubicBezTo>
                <a:cubicBezTo>
                  <a:pt x="15255" y="13841"/>
                  <a:pt x="15255" y="13858"/>
                  <a:pt x="15255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59280" y="5045040"/>
            <a:ext cx="169920" cy="54000"/>
          </a:xfrm>
          <a:custGeom>
            <a:avLst/>
            <a:gdLst/>
            <a:ahLst/>
            <a:rect l="l" t="t" r="r" b="b"/>
            <a:pathLst>
              <a:path w="472" h="149">
                <a:moveTo>
                  <a:pt x="15999" y="14114"/>
                </a:moveTo>
                <a:cubicBezTo>
                  <a:pt x="16008" y="14141"/>
                  <a:pt x="16017" y="14159"/>
                  <a:pt x="16049" y="14163"/>
                </a:cubicBezTo>
                <a:cubicBezTo>
                  <a:pt x="16108" y="14170"/>
                  <a:pt x="16145" y="14135"/>
                  <a:pt x="16197" y="14114"/>
                </a:cubicBezTo>
                <a:cubicBezTo>
                  <a:pt x="16267" y="14087"/>
                  <a:pt x="16358" y="14067"/>
                  <a:pt x="16421" y="14039"/>
                </a:cubicBezTo>
                <a:cubicBezTo>
                  <a:pt x="16443" y="14017"/>
                  <a:pt x="16448" y="14009"/>
                  <a:pt x="16470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43760" y="4884840"/>
            <a:ext cx="1009440" cy="312480"/>
          </a:xfrm>
          <a:custGeom>
            <a:avLst/>
            <a:gdLst/>
            <a:ahLst/>
            <a:rect l="l" t="t" r="r" b="b"/>
            <a:pathLst>
              <a:path w="2804" h="869">
                <a:moveTo>
                  <a:pt x="17190" y="13742"/>
                </a:moveTo>
                <a:cubicBezTo>
                  <a:pt x="17224" y="13707"/>
                  <a:pt x="17284" y="13667"/>
                  <a:pt x="17289" y="13618"/>
                </a:cubicBezTo>
                <a:cubicBezTo>
                  <a:pt x="17289" y="13610"/>
                  <a:pt x="17289" y="13601"/>
                  <a:pt x="17289" y="13593"/>
                </a:cubicBezTo>
                <a:cubicBezTo>
                  <a:pt x="17276" y="13644"/>
                  <a:pt x="17230" y="13677"/>
                  <a:pt x="17190" y="13717"/>
                </a:cubicBezTo>
                <a:cubicBezTo>
                  <a:pt x="17132" y="13776"/>
                  <a:pt x="17079" y="13855"/>
                  <a:pt x="17066" y="13940"/>
                </a:cubicBezTo>
                <a:cubicBezTo>
                  <a:pt x="17055" y="14014"/>
                  <a:pt x="17047" y="14150"/>
                  <a:pt x="17090" y="14213"/>
                </a:cubicBezTo>
                <a:cubicBezTo>
                  <a:pt x="17140" y="14287"/>
                  <a:pt x="17194" y="14269"/>
                  <a:pt x="17264" y="14238"/>
                </a:cubicBezTo>
                <a:cubicBezTo>
                  <a:pt x="17328" y="14209"/>
                  <a:pt x="17338" y="14179"/>
                  <a:pt x="17338" y="14114"/>
                </a:cubicBezTo>
                <a:cubicBezTo>
                  <a:pt x="17338" y="14085"/>
                  <a:pt x="17295" y="14024"/>
                  <a:pt x="17264" y="14015"/>
                </a:cubicBezTo>
                <a:cubicBezTo>
                  <a:pt x="17219" y="14015"/>
                  <a:pt x="17206" y="14019"/>
                  <a:pt x="17190" y="13990"/>
                </a:cubicBezTo>
              </a:path>
              <a:path w="2804" h="869">
                <a:moveTo>
                  <a:pt x="17587" y="13643"/>
                </a:moveTo>
                <a:cubicBezTo>
                  <a:pt x="17595" y="13635"/>
                  <a:pt x="17603" y="13626"/>
                  <a:pt x="17611" y="13618"/>
                </a:cubicBezTo>
                <a:cubicBezTo>
                  <a:pt x="17611" y="13714"/>
                  <a:pt x="17599" y="13798"/>
                  <a:pt x="17587" y="13891"/>
                </a:cubicBezTo>
                <a:cubicBezTo>
                  <a:pt x="17579" y="13955"/>
                  <a:pt x="17572" y="14040"/>
                  <a:pt x="17611" y="14089"/>
                </a:cubicBezTo>
                <a:cubicBezTo>
                  <a:pt x="17656" y="14146"/>
                  <a:pt x="17690" y="14139"/>
                  <a:pt x="17760" y="14139"/>
                </a:cubicBezTo>
                <a:cubicBezTo>
                  <a:pt x="17852" y="14139"/>
                  <a:pt x="18008" y="14109"/>
                  <a:pt x="18083" y="14163"/>
                </a:cubicBezTo>
              </a:path>
              <a:path w="2804" h="869">
                <a:moveTo>
                  <a:pt x="17835" y="14015"/>
                </a:moveTo>
                <a:cubicBezTo>
                  <a:pt x="17795" y="14080"/>
                  <a:pt x="17823" y="14135"/>
                  <a:pt x="17810" y="14213"/>
                </a:cubicBezTo>
                <a:cubicBezTo>
                  <a:pt x="17797" y="14294"/>
                  <a:pt x="17785" y="14354"/>
                  <a:pt x="17785" y="14436"/>
                </a:cubicBezTo>
              </a:path>
              <a:path w="2804" h="869">
                <a:moveTo>
                  <a:pt x="18182" y="14089"/>
                </a:moveTo>
                <a:cubicBezTo>
                  <a:pt x="18192" y="14016"/>
                  <a:pt x="18203" y="13995"/>
                  <a:pt x="18281" y="13990"/>
                </a:cubicBezTo>
                <a:cubicBezTo>
                  <a:pt x="18368" y="13985"/>
                  <a:pt x="18410" y="13987"/>
                  <a:pt x="18455" y="14064"/>
                </a:cubicBezTo>
                <a:cubicBezTo>
                  <a:pt x="18487" y="14120"/>
                  <a:pt x="18501" y="14249"/>
                  <a:pt x="18479" y="14312"/>
                </a:cubicBezTo>
                <a:cubicBezTo>
                  <a:pt x="18466" y="14349"/>
                  <a:pt x="18362" y="14346"/>
                  <a:pt x="18331" y="14337"/>
                </a:cubicBezTo>
                <a:cubicBezTo>
                  <a:pt x="18281" y="14312"/>
                  <a:pt x="18265" y="14304"/>
                  <a:pt x="18256" y="14263"/>
                </a:cubicBezTo>
              </a:path>
              <a:path w="2804" h="869">
                <a:moveTo>
                  <a:pt x="18653" y="14064"/>
                </a:moveTo>
                <a:cubicBezTo>
                  <a:pt x="18661" y="14039"/>
                  <a:pt x="18670" y="14015"/>
                  <a:pt x="18678" y="13990"/>
                </a:cubicBezTo>
                <a:cubicBezTo>
                  <a:pt x="18607" y="14041"/>
                  <a:pt x="18547" y="14119"/>
                  <a:pt x="18529" y="14213"/>
                </a:cubicBezTo>
                <a:cubicBezTo>
                  <a:pt x="18515" y="14288"/>
                  <a:pt x="18519" y="14387"/>
                  <a:pt x="18604" y="14412"/>
                </a:cubicBezTo>
                <a:cubicBezTo>
                  <a:pt x="18676" y="14433"/>
                  <a:pt x="18741" y="14393"/>
                  <a:pt x="18802" y="14362"/>
                </a:cubicBezTo>
              </a:path>
              <a:path w="2804" h="869">
                <a:moveTo>
                  <a:pt x="19100" y="14015"/>
                </a:moveTo>
                <a:cubicBezTo>
                  <a:pt x="19092" y="14015"/>
                  <a:pt x="19083" y="14015"/>
                  <a:pt x="19075" y="14015"/>
                </a:cubicBezTo>
                <a:cubicBezTo>
                  <a:pt x="19087" y="13967"/>
                  <a:pt x="19121" y="13953"/>
                  <a:pt x="19174" y="13940"/>
                </a:cubicBezTo>
                <a:cubicBezTo>
                  <a:pt x="19200" y="13934"/>
                  <a:pt x="19249" y="13940"/>
                  <a:pt x="19273" y="13940"/>
                </a:cubicBezTo>
              </a:path>
              <a:path w="2804" h="869">
                <a:moveTo>
                  <a:pt x="19596" y="13742"/>
                </a:moveTo>
                <a:cubicBezTo>
                  <a:pt x="19557" y="13703"/>
                  <a:pt x="19540" y="13701"/>
                  <a:pt x="19546" y="13667"/>
                </a:cubicBezTo>
                <a:cubicBezTo>
                  <a:pt x="19556" y="13638"/>
                  <a:pt x="19567" y="13625"/>
                  <a:pt x="19596" y="13593"/>
                </a:cubicBezTo>
                <a:cubicBezTo>
                  <a:pt x="19633" y="13551"/>
                  <a:pt x="19692" y="13568"/>
                  <a:pt x="19745" y="13568"/>
                </a:cubicBezTo>
                <a:cubicBezTo>
                  <a:pt x="19800" y="13568"/>
                  <a:pt x="19853" y="13600"/>
                  <a:pt x="19819" y="13667"/>
                </a:cubicBezTo>
                <a:cubicBezTo>
                  <a:pt x="19805" y="13695"/>
                  <a:pt x="19750" y="13732"/>
                  <a:pt x="19745" y="13742"/>
                </a:cubicBezTo>
                <a:cubicBezTo>
                  <a:pt x="19725" y="13784"/>
                  <a:pt x="19769" y="13816"/>
                  <a:pt x="19794" y="13841"/>
                </a:cubicBezTo>
                <a:cubicBezTo>
                  <a:pt x="19827" y="13875"/>
                  <a:pt x="19863" y="13861"/>
                  <a:pt x="19869" y="13915"/>
                </a:cubicBezTo>
                <a:cubicBezTo>
                  <a:pt x="19875" y="13969"/>
                  <a:pt x="19850" y="13976"/>
                  <a:pt x="19794" y="13990"/>
                </a:cubicBezTo>
                <a:cubicBezTo>
                  <a:pt x="19761" y="13990"/>
                  <a:pt x="19745" y="13990"/>
                  <a:pt x="19720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5920" y="555480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3820" y="15453"/>
                </a:moveTo>
                <a:cubicBezTo>
                  <a:pt x="3880" y="15453"/>
                  <a:pt x="3923" y="15462"/>
                  <a:pt x="3969" y="15429"/>
                </a:cubicBezTo>
                <a:cubicBezTo>
                  <a:pt x="3850" y="15429"/>
                  <a:pt x="3671" y="15396"/>
                  <a:pt x="3572" y="15453"/>
                </a:cubicBezTo>
              </a:path>
              <a:path w="398" h="224">
                <a:moveTo>
                  <a:pt x="3870" y="15553"/>
                </a:moveTo>
                <a:cubicBezTo>
                  <a:pt x="3927" y="15572"/>
                  <a:pt x="3952" y="15562"/>
                  <a:pt x="3944" y="15602"/>
                </a:cubicBezTo>
                <a:cubicBezTo>
                  <a:pt x="3874" y="15642"/>
                  <a:pt x="3853" y="15652"/>
                  <a:pt x="3770" y="15652"/>
                </a:cubicBezTo>
                <a:cubicBezTo>
                  <a:pt x="3762" y="15652"/>
                  <a:pt x="3754" y="15652"/>
                  <a:pt x="3746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14680" y="5402160"/>
            <a:ext cx="607680" cy="295200"/>
          </a:xfrm>
          <a:custGeom>
            <a:avLst/>
            <a:gdLst/>
            <a:ahLst/>
            <a:rect l="l" t="t" r="r" b="b"/>
            <a:pathLst>
              <a:path w="1688" h="819">
                <a:moveTo>
                  <a:pt x="4911" y="15528"/>
                </a:moveTo>
                <a:cubicBezTo>
                  <a:pt x="4854" y="15509"/>
                  <a:pt x="4847" y="15500"/>
                  <a:pt x="4812" y="15503"/>
                </a:cubicBezTo>
                <a:cubicBezTo>
                  <a:pt x="4844" y="15479"/>
                  <a:pt x="4894" y="15439"/>
                  <a:pt x="4936" y="15429"/>
                </a:cubicBezTo>
                <a:cubicBezTo>
                  <a:pt x="5014" y="15411"/>
                  <a:pt x="5055" y="15491"/>
                  <a:pt x="5060" y="15553"/>
                </a:cubicBezTo>
                <a:cubicBezTo>
                  <a:pt x="5067" y="15630"/>
                  <a:pt x="5079" y="15787"/>
                  <a:pt x="4986" y="15825"/>
                </a:cubicBezTo>
                <a:cubicBezTo>
                  <a:pt x="4912" y="15855"/>
                  <a:pt x="4825" y="15807"/>
                  <a:pt x="4762" y="15776"/>
                </a:cubicBezTo>
              </a:path>
              <a:path w="1688" h="819">
                <a:moveTo>
                  <a:pt x="5135" y="15453"/>
                </a:moveTo>
                <a:cubicBezTo>
                  <a:pt x="5191" y="15416"/>
                  <a:pt x="5195" y="15399"/>
                  <a:pt x="5234" y="15404"/>
                </a:cubicBezTo>
                <a:cubicBezTo>
                  <a:pt x="5189" y="15448"/>
                  <a:pt x="5117" y="15474"/>
                  <a:pt x="5085" y="15528"/>
                </a:cubicBezTo>
                <a:cubicBezTo>
                  <a:pt x="5037" y="15609"/>
                  <a:pt x="5049" y="15725"/>
                  <a:pt x="5135" y="15776"/>
                </a:cubicBezTo>
                <a:cubicBezTo>
                  <a:pt x="5211" y="15821"/>
                  <a:pt x="5257" y="15797"/>
                  <a:pt x="5333" y="15776"/>
                </a:cubicBezTo>
              </a:path>
              <a:path w="1688" h="819">
                <a:moveTo>
                  <a:pt x="5655" y="15106"/>
                </a:moveTo>
                <a:cubicBezTo>
                  <a:pt x="5658" y="15098"/>
                  <a:pt x="5697" y="15037"/>
                  <a:pt x="5705" y="15032"/>
                </a:cubicBezTo>
                <a:cubicBezTo>
                  <a:pt x="5732" y="15014"/>
                  <a:pt x="5768" y="15007"/>
                  <a:pt x="5804" y="15007"/>
                </a:cubicBezTo>
                <a:cubicBezTo>
                  <a:pt x="5835" y="15007"/>
                  <a:pt x="5894" y="15004"/>
                  <a:pt x="5879" y="15056"/>
                </a:cubicBezTo>
                <a:cubicBezTo>
                  <a:pt x="5864" y="15109"/>
                  <a:pt x="5808" y="15129"/>
                  <a:pt x="5804" y="15180"/>
                </a:cubicBezTo>
                <a:cubicBezTo>
                  <a:pt x="5797" y="15271"/>
                  <a:pt x="5822" y="15234"/>
                  <a:pt x="5854" y="15280"/>
                </a:cubicBezTo>
                <a:cubicBezTo>
                  <a:pt x="5880" y="15318"/>
                  <a:pt x="5771" y="15370"/>
                  <a:pt x="5755" y="15379"/>
                </a:cubicBezTo>
              </a:path>
              <a:path w="1688" h="819">
                <a:moveTo>
                  <a:pt x="6176" y="15503"/>
                </a:moveTo>
                <a:cubicBezTo>
                  <a:pt x="6187" y="15470"/>
                  <a:pt x="6229" y="15467"/>
                  <a:pt x="6276" y="15478"/>
                </a:cubicBezTo>
                <a:cubicBezTo>
                  <a:pt x="6345" y="15494"/>
                  <a:pt x="6379" y="15503"/>
                  <a:pt x="6449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5456160"/>
            <a:ext cx="768600" cy="231840"/>
          </a:xfrm>
          <a:custGeom>
            <a:avLst/>
            <a:gdLst/>
            <a:ahLst/>
            <a:rect l="l" t="t" r="r" b="b"/>
            <a:pathLst>
              <a:path w="2134" h="646">
                <a:moveTo>
                  <a:pt x="7094" y="15354"/>
                </a:moveTo>
                <a:cubicBezTo>
                  <a:pt x="7102" y="15346"/>
                  <a:pt x="7111" y="15337"/>
                  <a:pt x="7119" y="15329"/>
                </a:cubicBezTo>
                <a:cubicBezTo>
                  <a:pt x="7161" y="15385"/>
                  <a:pt x="7144" y="15455"/>
                  <a:pt x="7144" y="15528"/>
                </a:cubicBezTo>
                <a:cubicBezTo>
                  <a:pt x="7144" y="15641"/>
                  <a:pt x="7145" y="15701"/>
                  <a:pt x="7193" y="15801"/>
                </a:cubicBezTo>
              </a:path>
              <a:path w="2134" h="646">
                <a:moveTo>
                  <a:pt x="7342" y="15404"/>
                </a:moveTo>
                <a:cubicBezTo>
                  <a:pt x="7342" y="15345"/>
                  <a:pt x="7362" y="15350"/>
                  <a:pt x="7392" y="15304"/>
                </a:cubicBezTo>
                <a:cubicBezTo>
                  <a:pt x="7428" y="15249"/>
                  <a:pt x="7479" y="15182"/>
                  <a:pt x="7541" y="15156"/>
                </a:cubicBezTo>
                <a:cubicBezTo>
                  <a:pt x="7549" y="15156"/>
                  <a:pt x="7557" y="15156"/>
                  <a:pt x="7565" y="15156"/>
                </a:cubicBezTo>
                <a:cubicBezTo>
                  <a:pt x="7565" y="15253"/>
                  <a:pt x="7568" y="15336"/>
                  <a:pt x="7541" y="15429"/>
                </a:cubicBezTo>
                <a:cubicBezTo>
                  <a:pt x="7524" y="15488"/>
                  <a:pt x="7446" y="15589"/>
                  <a:pt x="7466" y="15652"/>
                </a:cubicBezTo>
                <a:cubicBezTo>
                  <a:pt x="7485" y="15715"/>
                  <a:pt x="7568" y="15701"/>
                  <a:pt x="7615" y="15701"/>
                </a:cubicBezTo>
                <a:cubicBezTo>
                  <a:pt x="7668" y="15701"/>
                  <a:pt x="7713" y="15662"/>
                  <a:pt x="7764" y="15652"/>
                </a:cubicBezTo>
              </a:path>
              <a:path w="2134" h="646">
                <a:moveTo>
                  <a:pt x="7789" y="15528"/>
                </a:moveTo>
                <a:cubicBezTo>
                  <a:pt x="7855" y="15471"/>
                  <a:pt x="7852" y="15478"/>
                  <a:pt x="7938" y="15478"/>
                </a:cubicBezTo>
                <a:cubicBezTo>
                  <a:pt x="8004" y="15478"/>
                  <a:pt x="8009" y="15551"/>
                  <a:pt x="8012" y="15602"/>
                </a:cubicBezTo>
                <a:cubicBezTo>
                  <a:pt x="8016" y="15671"/>
                  <a:pt x="8034" y="15724"/>
                  <a:pt x="7962" y="15751"/>
                </a:cubicBezTo>
                <a:cubicBezTo>
                  <a:pt x="7927" y="15751"/>
                  <a:pt x="7915" y="15741"/>
                  <a:pt x="7913" y="15701"/>
                </a:cubicBezTo>
              </a:path>
              <a:path w="2134" h="646">
                <a:moveTo>
                  <a:pt x="8012" y="15478"/>
                </a:moveTo>
                <a:cubicBezTo>
                  <a:pt x="8070" y="15420"/>
                  <a:pt x="8078" y="15412"/>
                  <a:pt x="8111" y="15379"/>
                </a:cubicBezTo>
                <a:cubicBezTo>
                  <a:pt x="8111" y="15481"/>
                  <a:pt x="8079" y="15621"/>
                  <a:pt x="8161" y="15677"/>
                </a:cubicBezTo>
                <a:cubicBezTo>
                  <a:pt x="8226" y="15721"/>
                  <a:pt x="8270" y="15698"/>
                  <a:pt x="8334" y="15677"/>
                </a:cubicBezTo>
              </a:path>
              <a:path w="2134" h="646">
                <a:moveTo>
                  <a:pt x="9203" y="15553"/>
                </a:moveTo>
                <a:cubicBezTo>
                  <a:pt x="9256" y="15553"/>
                  <a:pt x="9147" y="15570"/>
                  <a:pt x="9128" y="15577"/>
                </a:cubicBezTo>
                <a:cubicBezTo>
                  <a:pt x="9046" y="15607"/>
                  <a:pt x="8917" y="15622"/>
                  <a:pt x="8830" y="15602"/>
                </a:cubicBezTo>
                <a:cubicBezTo>
                  <a:pt x="8814" y="15594"/>
                  <a:pt x="8797" y="15585"/>
                  <a:pt x="8781" y="15577"/>
                </a:cubicBezTo>
              </a:path>
              <a:path w="2134" h="646">
                <a:moveTo>
                  <a:pt x="8930" y="15429"/>
                </a:moveTo>
                <a:cubicBezTo>
                  <a:pt x="8971" y="15401"/>
                  <a:pt x="8996" y="15488"/>
                  <a:pt x="9004" y="15553"/>
                </a:cubicBezTo>
                <a:cubicBezTo>
                  <a:pt x="9014" y="15628"/>
                  <a:pt x="9021" y="15701"/>
                  <a:pt x="9029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16200" y="5375160"/>
            <a:ext cx="357480" cy="608040"/>
          </a:xfrm>
          <a:custGeom>
            <a:avLst/>
            <a:gdLst/>
            <a:ahLst/>
            <a:rect l="l" t="t" r="r" b="b"/>
            <a:pathLst>
              <a:path w="993" h="1688">
                <a:moveTo>
                  <a:pt x="10046" y="15081"/>
                </a:moveTo>
                <a:cubicBezTo>
                  <a:pt x="10068" y="15038"/>
                  <a:pt x="10072" y="15026"/>
                  <a:pt x="10096" y="15007"/>
                </a:cubicBezTo>
                <a:cubicBezTo>
                  <a:pt x="10085" y="15093"/>
                  <a:pt x="10050" y="15164"/>
                  <a:pt x="10046" y="15255"/>
                </a:cubicBezTo>
                <a:cubicBezTo>
                  <a:pt x="10044" y="15302"/>
                  <a:pt x="10034" y="15386"/>
                  <a:pt x="10096" y="15404"/>
                </a:cubicBezTo>
                <a:cubicBezTo>
                  <a:pt x="10164" y="15424"/>
                  <a:pt x="10229" y="15383"/>
                  <a:pt x="10294" y="15379"/>
                </a:cubicBezTo>
                <a:cubicBezTo>
                  <a:pt x="10358" y="15375"/>
                  <a:pt x="10402" y="15354"/>
                  <a:pt x="10468" y="15354"/>
                </a:cubicBezTo>
                <a:cubicBezTo>
                  <a:pt x="10498" y="15354"/>
                  <a:pt x="10509" y="15380"/>
                  <a:pt x="10517" y="15404"/>
                </a:cubicBezTo>
              </a:path>
              <a:path w="993" h="1688">
                <a:moveTo>
                  <a:pt x="10269" y="15230"/>
                </a:moveTo>
                <a:cubicBezTo>
                  <a:pt x="10261" y="15222"/>
                  <a:pt x="10252" y="15213"/>
                  <a:pt x="10244" y="15205"/>
                </a:cubicBezTo>
                <a:cubicBezTo>
                  <a:pt x="10253" y="15273"/>
                  <a:pt x="10253" y="15362"/>
                  <a:pt x="10269" y="15429"/>
                </a:cubicBezTo>
                <a:cubicBezTo>
                  <a:pt x="10281" y="15479"/>
                  <a:pt x="10294" y="15479"/>
                  <a:pt x="10294" y="15528"/>
                </a:cubicBezTo>
              </a:path>
              <a:path w="993" h="1688">
                <a:moveTo>
                  <a:pt x="10815" y="15007"/>
                </a:moveTo>
                <a:cubicBezTo>
                  <a:pt x="10837" y="14985"/>
                  <a:pt x="10842" y="14976"/>
                  <a:pt x="10864" y="14982"/>
                </a:cubicBezTo>
                <a:cubicBezTo>
                  <a:pt x="10859" y="14966"/>
                  <a:pt x="10825" y="14917"/>
                  <a:pt x="10790" y="14932"/>
                </a:cubicBezTo>
                <a:cubicBezTo>
                  <a:pt x="10739" y="14954"/>
                  <a:pt x="10668" y="15036"/>
                  <a:pt x="10641" y="15081"/>
                </a:cubicBezTo>
                <a:cubicBezTo>
                  <a:pt x="10623" y="15111"/>
                  <a:pt x="10595" y="15193"/>
                  <a:pt x="10616" y="15230"/>
                </a:cubicBezTo>
                <a:cubicBezTo>
                  <a:pt x="10650" y="15291"/>
                  <a:pt x="10739" y="15235"/>
                  <a:pt x="10790" y="15255"/>
                </a:cubicBezTo>
                <a:cubicBezTo>
                  <a:pt x="10824" y="15268"/>
                  <a:pt x="10861" y="15323"/>
                  <a:pt x="10864" y="15354"/>
                </a:cubicBezTo>
                <a:cubicBezTo>
                  <a:pt x="10870" y="15408"/>
                  <a:pt x="10808" y="15425"/>
                  <a:pt x="10765" y="15429"/>
                </a:cubicBezTo>
                <a:cubicBezTo>
                  <a:pt x="10757" y="15429"/>
                  <a:pt x="10748" y="15429"/>
                  <a:pt x="10740" y="15429"/>
                </a:cubicBezTo>
                <a:cubicBezTo>
                  <a:pt x="10709" y="15375"/>
                  <a:pt x="10706" y="15339"/>
                  <a:pt x="10740" y="15280"/>
                </a:cubicBezTo>
                <a:cubicBezTo>
                  <a:pt x="10786" y="15202"/>
                  <a:pt x="10845" y="15131"/>
                  <a:pt x="10914" y="15081"/>
                </a:cubicBezTo>
              </a:path>
              <a:path w="993" h="1688">
                <a:moveTo>
                  <a:pt x="10964" y="15701"/>
                </a:moveTo>
                <a:cubicBezTo>
                  <a:pt x="10980" y="15701"/>
                  <a:pt x="10997" y="15701"/>
                  <a:pt x="11013" y="15701"/>
                </a:cubicBezTo>
                <a:cubicBezTo>
                  <a:pt x="11083" y="15701"/>
                  <a:pt x="10872" y="15701"/>
                  <a:pt x="10864" y="15701"/>
                </a:cubicBezTo>
                <a:cubicBezTo>
                  <a:pt x="10729" y="15701"/>
                  <a:pt x="10623" y="15736"/>
                  <a:pt x="10492" y="15751"/>
                </a:cubicBezTo>
                <a:cubicBezTo>
                  <a:pt x="10393" y="15762"/>
                  <a:pt x="10313" y="15779"/>
                  <a:pt x="10220" y="15801"/>
                </a:cubicBezTo>
                <a:cubicBezTo>
                  <a:pt x="10180" y="15810"/>
                  <a:pt x="10153" y="15825"/>
                  <a:pt x="10120" y="15850"/>
                </a:cubicBezTo>
              </a:path>
              <a:path w="993" h="1688">
                <a:moveTo>
                  <a:pt x="10319" y="16297"/>
                </a:moveTo>
                <a:cubicBezTo>
                  <a:pt x="10311" y="16297"/>
                  <a:pt x="10302" y="16297"/>
                  <a:pt x="10294" y="16297"/>
                </a:cubicBezTo>
                <a:cubicBezTo>
                  <a:pt x="10309" y="16237"/>
                  <a:pt x="10332" y="16247"/>
                  <a:pt x="10393" y="16247"/>
                </a:cubicBezTo>
                <a:cubicBezTo>
                  <a:pt x="10487" y="16247"/>
                  <a:pt x="10535" y="16335"/>
                  <a:pt x="10542" y="16421"/>
                </a:cubicBezTo>
                <a:cubicBezTo>
                  <a:pt x="10547" y="16481"/>
                  <a:pt x="10557" y="16582"/>
                  <a:pt x="10492" y="16619"/>
                </a:cubicBezTo>
                <a:cubicBezTo>
                  <a:pt x="10424" y="16657"/>
                  <a:pt x="10373" y="16586"/>
                  <a:pt x="10344" y="16545"/>
                </a:cubicBezTo>
              </a:path>
              <a:path w="993" h="1688">
                <a:moveTo>
                  <a:pt x="10641" y="16222"/>
                </a:moveTo>
                <a:cubicBezTo>
                  <a:pt x="10658" y="16214"/>
                  <a:pt x="10674" y="16205"/>
                  <a:pt x="10691" y="16197"/>
                </a:cubicBezTo>
                <a:cubicBezTo>
                  <a:pt x="10679" y="16247"/>
                  <a:pt x="10629" y="16266"/>
                  <a:pt x="10616" y="16321"/>
                </a:cubicBezTo>
                <a:cubicBezTo>
                  <a:pt x="10605" y="16367"/>
                  <a:pt x="10610" y="16475"/>
                  <a:pt x="10666" y="16495"/>
                </a:cubicBezTo>
                <a:cubicBezTo>
                  <a:pt x="10743" y="16522"/>
                  <a:pt x="10785" y="16482"/>
                  <a:pt x="10840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87880" y="5724360"/>
            <a:ext cx="9036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1633" y="15925"/>
                </a:moveTo>
                <a:cubicBezTo>
                  <a:pt x="11633" y="15917"/>
                  <a:pt x="11633" y="15908"/>
                  <a:pt x="11633" y="15900"/>
                </a:cubicBezTo>
                <a:cubicBezTo>
                  <a:pt x="11675" y="15911"/>
                  <a:pt x="11704" y="15941"/>
                  <a:pt x="11757" y="15925"/>
                </a:cubicBezTo>
                <a:cubicBezTo>
                  <a:pt x="11823" y="15906"/>
                  <a:pt x="11812" y="15900"/>
                  <a:pt x="11881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7280" y="5438880"/>
            <a:ext cx="500040" cy="642960"/>
          </a:xfrm>
          <a:custGeom>
            <a:avLst/>
            <a:gdLst/>
            <a:ahLst/>
            <a:rect l="l" t="t" r="r" b="b"/>
            <a:pathLst>
              <a:path w="1390" h="1787">
                <a:moveTo>
                  <a:pt x="13246" y="15230"/>
                </a:moveTo>
                <a:cubicBezTo>
                  <a:pt x="13264" y="15184"/>
                  <a:pt x="13285" y="15148"/>
                  <a:pt x="13295" y="15106"/>
                </a:cubicBezTo>
                <a:cubicBezTo>
                  <a:pt x="13319" y="15106"/>
                  <a:pt x="13282" y="15137"/>
                  <a:pt x="13246" y="15180"/>
                </a:cubicBezTo>
                <a:cubicBezTo>
                  <a:pt x="13173" y="15268"/>
                  <a:pt x="13150" y="15330"/>
                  <a:pt x="13171" y="15453"/>
                </a:cubicBezTo>
                <a:cubicBezTo>
                  <a:pt x="13186" y="15540"/>
                  <a:pt x="13225" y="15650"/>
                  <a:pt x="13320" y="15677"/>
                </a:cubicBezTo>
                <a:cubicBezTo>
                  <a:pt x="13403" y="15700"/>
                  <a:pt x="13416" y="15611"/>
                  <a:pt x="13419" y="15553"/>
                </a:cubicBezTo>
                <a:cubicBezTo>
                  <a:pt x="13421" y="15507"/>
                  <a:pt x="13393" y="15450"/>
                  <a:pt x="13345" y="15429"/>
                </a:cubicBezTo>
                <a:cubicBezTo>
                  <a:pt x="13319" y="15418"/>
                  <a:pt x="13274" y="15429"/>
                  <a:pt x="13246" y="15429"/>
                </a:cubicBezTo>
              </a:path>
              <a:path w="1390" h="1787">
                <a:moveTo>
                  <a:pt x="13618" y="15280"/>
                </a:moveTo>
                <a:cubicBezTo>
                  <a:pt x="13640" y="15258"/>
                  <a:pt x="13645" y="15249"/>
                  <a:pt x="13667" y="15255"/>
                </a:cubicBezTo>
                <a:cubicBezTo>
                  <a:pt x="13658" y="15332"/>
                  <a:pt x="13629" y="15400"/>
                  <a:pt x="13618" y="15478"/>
                </a:cubicBezTo>
                <a:cubicBezTo>
                  <a:pt x="13610" y="15537"/>
                  <a:pt x="13609" y="15608"/>
                  <a:pt x="13643" y="15652"/>
                </a:cubicBezTo>
                <a:cubicBezTo>
                  <a:pt x="13691" y="15714"/>
                  <a:pt x="13760" y="15661"/>
                  <a:pt x="13816" y="15652"/>
                </a:cubicBezTo>
                <a:cubicBezTo>
                  <a:pt x="13883" y="15641"/>
                  <a:pt x="13925" y="15607"/>
                  <a:pt x="13990" y="15602"/>
                </a:cubicBezTo>
                <a:cubicBezTo>
                  <a:pt x="14041" y="15598"/>
                  <a:pt x="14049" y="15614"/>
                  <a:pt x="14089" y="15627"/>
                </a:cubicBezTo>
                <a:cubicBezTo>
                  <a:pt x="14097" y="15627"/>
                  <a:pt x="14106" y="15627"/>
                  <a:pt x="14114" y="15627"/>
                </a:cubicBezTo>
              </a:path>
              <a:path w="1390" h="1787">
                <a:moveTo>
                  <a:pt x="13866" y="15478"/>
                </a:moveTo>
                <a:cubicBezTo>
                  <a:pt x="13858" y="15470"/>
                  <a:pt x="13849" y="15461"/>
                  <a:pt x="13841" y="15453"/>
                </a:cubicBezTo>
                <a:cubicBezTo>
                  <a:pt x="13841" y="15535"/>
                  <a:pt x="13820" y="15596"/>
                  <a:pt x="13816" y="15677"/>
                </a:cubicBezTo>
                <a:cubicBezTo>
                  <a:pt x="13816" y="15693"/>
                  <a:pt x="13816" y="15710"/>
                  <a:pt x="13816" y="15726"/>
                </a:cubicBezTo>
              </a:path>
              <a:path w="1390" h="1787">
                <a:moveTo>
                  <a:pt x="14436" y="16098"/>
                </a:moveTo>
                <a:cubicBezTo>
                  <a:pt x="14423" y="16139"/>
                  <a:pt x="14388" y="16123"/>
                  <a:pt x="14337" y="16123"/>
                </a:cubicBezTo>
                <a:cubicBezTo>
                  <a:pt x="14189" y="16123"/>
                  <a:pt x="14043" y="16148"/>
                  <a:pt x="13891" y="16148"/>
                </a:cubicBezTo>
                <a:cubicBezTo>
                  <a:pt x="13706" y="16148"/>
                  <a:pt x="13528" y="16128"/>
                  <a:pt x="13345" y="16123"/>
                </a:cubicBezTo>
                <a:cubicBezTo>
                  <a:pt x="13244" y="16121"/>
                  <a:pt x="13150" y="16128"/>
                  <a:pt x="13072" y="16197"/>
                </a:cubicBezTo>
                <a:cubicBezTo>
                  <a:pt x="13048" y="16218"/>
                  <a:pt x="13015" y="16260"/>
                  <a:pt x="13072" y="16222"/>
                </a:cubicBezTo>
              </a:path>
              <a:path w="1390" h="1787">
                <a:moveTo>
                  <a:pt x="13295" y="16545"/>
                </a:moveTo>
                <a:cubicBezTo>
                  <a:pt x="13262" y="16557"/>
                  <a:pt x="13271" y="16608"/>
                  <a:pt x="13271" y="16570"/>
                </a:cubicBezTo>
                <a:cubicBezTo>
                  <a:pt x="13208" y="16538"/>
                  <a:pt x="13341" y="16545"/>
                  <a:pt x="13370" y="16545"/>
                </a:cubicBezTo>
                <a:cubicBezTo>
                  <a:pt x="13465" y="16545"/>
                  <a:pt x="13504" y="16599"/>
                  <a:pt x="13519" y="16694"/>
                </a:cubicBezTo>
                <a:cubicBezTo>
                  <a:pt x="13526" y="16742"/>
                  <a:pt x="13533" y="16869"/>
                  <a:pt x="13469" y="16892"/>
                </a:cubicBezTo>
                <a:cubicBezTo>
                  <a:pt x="13425" y="16907"/>
                  <a:pt x="13305" y="16901"/>
                  <a:pt x="13271" y="16867"/>
                </a:cubicBezTo>
                <a:cubicBezTo>
                  <a:pt x="13251" y="16827"/>
                  <a:pt x="13242" y="16821"/>
                  <a:pt x="13246" y="16793"/>
                </a:cubicBezTo>
              </a:path>
              <a:path w="1390" h="1787">
                <a:moveTo>
                  <a:pt x="13469" y="16644"/>
                </a:moveTo>
                <a:cubicBezTo>
                  <a:pt x="13525" y="16606"/>
                  <a:pt x="13528" y="16589"/>
                  <a:pt x="13568" y="16594"/>
                </a:cubicBezTo>
                <a:cubicBezTo>
                  <a:pt x="13545" y="16640"/>
                  <a:pt x="13494" y="16657"/>
                  <a:pt x="13469" y="16718"/>
                </a:cubicBezTo>
                <a:cubicBezTo>
                  <a:pt x="13438" y="16793"/>
                  <a:pt x="13420" y="16868"/>
                  <a:pt x="13519" y="16892"/>
                </a:cubicBezTo>
                <a:cubicBezTo>
                  <a:pt x="13571" y="16904"/>
                  <a:pt x="13604" y="16890"/>
                  <a:pt x="13643" y="16867"/>
                </a:cubicBezTo>
              </a:path>
              <a:path w="1390" h="1787">
                <a:moveTo>
                  <a:pt x="13915" y="16470"/>
                </a:moveTo>
                <a:cubicBezTo>
                  <a:pt x="13915" y="16421"/>
                  <a:pt x="13910" y="16370"/>
                  <a:pt x="13965" y="16346"/>
                </a:cubicBezTo>
                <a:cubicBezTo>
                  <a:pt x="13985" y="16337"/>
                  <a:pt x="14036" y="16305"/>
                  <a:pt x="14064" y="16321"/>
                </a:cubicBezTo>
                <a:cubicBezTo>
                  <a:pt x="14122" y="16353"/>
                  <a:pt x="14075" y="16388"/>
                  <a:pt x="14064" y="16421"/>
                </a:cubicBezTo>
                <a:cubicBezTo>
                  <a:pt x="14047" y="16473"/>
                  <a:pt x="14078" y="16525"/>
                  <a:pt x="14089" y="16570"/>
                </a:cubicBezTo>
                <a:cubicBezTo>
                  <a:pt x="14089" y="16598"/>
                  <a:pt x="14092" y="16608"/>
                  <a:pt x="14114" y="16619"/>
                </a:cubicBezTo>
                <a:cubicBezTo>
                  <a:pt x="14081" y="16619"/>
                  <a:pt x="14048" y="16619"/>
                  <a:pt x="14015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5160" y="5983200"/>
            <a:ext cx="9720" cy="17640"/>
          </a:xfrm>
          <a:custGeom>
            <a:avLst/>
            <a:gdLst/>
            <a:ahLst/>
            <a:rect l="l" t="t" r="r" b="b"/>
            <a:pathLst>
              <a:path w="26" h="51">
                <a:moveTo>
                  <a:pt x="14932" y="16669"/>
                </a:moveTo>
                <a:cubicBezTo>
                  <a:pt x="14932" y="16626"/>
                  <a:pt x="14922" y="16631"/>
                  <a:pt x="14957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0:21:16Z</dcterms:created>
  <dc:creator>N Holden</dc:creator>
  <dc:description/>
  <dc:language>en-US</dc:language>
  <cp:lastModifiedBy>N Holden</cp:lastModifiedBy>
  <dcterms:modified xsi:type="dcterms:W3CDTF">2008-12-17T11:41:25Z</dcterms:modified>
  <cp:revision>7</cp:revision>
  <dc:subject/>
  <dc:title>L.O. Use the binomial expansion</dc:title>
</cp:coreProperties>
</file>